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1388388" cy="30279975"/>
  <p:notesSz cx="20931188" cy="29818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7E445-EA04-4AA1-A164-F61840959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endParaRPr b="0" lang="en-US" sz="14200" spc="-1" strike="noStrike">
              <a:solidFill>
                <a:srgbClr val="000000"/>
              </a:solidFill>
              <a:latin typeface="Calibri"/>
            </a:endParaRPr>
          </a:p>
        </p:txBody>
      </p:sp>
      <p:sp>
        <p:nvSpPr>
          <p:cNvPr id="27" name="PlaceHolder 2"/>
          <p:cNvSpPr>
            <a:spLocks noGrp="1"/>
          </p:cNvSpPr>
          <p:nvPr>
            <p:ph/>
          </p:nvPr>
        </p:nvSpPr>
        <p:spPr>
          <a:xfrm>
            <a:off x="1069920" y="7065720"/>
            <a:ext cx="1924704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28" name="PlaceHolder 3"/>
          <p:cNvSpPr>
            <a:spLocks noGrp="1"/>
          </p:cNvSpPr>
          <p:nvPr>
            <p:ph/>
          </p:nvPr>
        </p:nvSpPr>
        <p:spPr>
          <a:xfrm>
            <a:off x="1069920" y="17503200"/>
            <a:ext cx="1924704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48E35-26EE-4AB2-894D-13F83C228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endParaRPr b="0" lang="en-US" sz="14200" spc="-1" strike="noStrike">
              <a:solidFill>
                <a:srgbClr val="000000"/>
              </a:solidFill>
              <a:latin typeface="Calibri"/>
            </a:endParaRPr>
          </a:p>
        </p:txBody>
      </p:sp>
      <p:sp>
        <p:nvSpPr>
          <p:cNvPr id="30" name="PlaceHolder 2"/>
          <p:cNvSpPr>
            <a:spLocks noGrp="1"/>
          </p:cNvSpPr>
          <p:nvPr>
            <p:ph/>
          </p:nvPr>
        </p:nvSpPr>
        <p:spPr>
          <a:xfrm>
            <a:off x="1069920" y="7065720"/>
            <a:ext cx="9392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31" name="PlaceHolder 3"/>
          <p:cNvSpPr>
            <a:spLocks noGrp="1"/>
          </p:cNvSpPr>
          <p:nvPr>
            <p:ph/>
          </p:nvPr>
        </p:nvSpPr>
        <p:spPr>
          <a:xfrm>
            <a:off x="10932480" y="7065720"/>
            <a:ext cx="9392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32" name="PlaceHolder 4"/>
          <p:cNvSpPr>
            <a:spLocks noGrp="1"/>
          </p:cNvSpPr>
          <p:nvPr>
            <p:ph/>
          </p:nvPr>
        </p:nvSpPr>
        <p:spPr>
          <a:xfrm>
            <a:off x="1069920" y="17503200"/>
            <a:ext cx="9392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33" name="PlaceHolder 5"/>
          <p:cNvSpPr>
            <a:spLocks noGrp="1"/>
          </p:cNvSpPr>
          <p:nvPr>
            <p:ph/>
          </p:nvPr>
        </p:nvSpPr>
        <p:spPr>
          <a:xfrm>
            <a:off x="10932480" y="17503200"/>
            <a:ext cx="9392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86CDD-8ED9-47DD-9738-346E71E84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endParaRPr b="0" lang="en-US" sz="14200" spc="-1" strike="noStrike">
              <a:solidFill>
                <a:srgbClr val="000000"/>
              </a:solidFill>
              <a:latin typeface="Calibri"/>
            </a:endParaRPr>
          </a:p>
        </p:txBody>
      </p:sp>
      <p:sp>
        <p:nvSpPr>
          <p:cNvPr id="35" name="PlaceHolder 2"/>
          <p:cNvSpPr>
            <a:spLocks noGrp="1"/>
          </p:cNvSpPr>
          <p:nvPr>
            <p:ph/>
          </p:nvPr>
        </p:nvSpPr>
        <p:spPr>
          <a:xfrm>
            <a:off x="1069920" y="7065720"/>
            <a:ext cx="6197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36" name="PlaceHolder 3"/>
          <p:cNvSpPr>
            <a:spLocks noGrp="1"/>
          </p:cNvSpPr>
          <p:nvPr>
            <p:ph/>
          </p:nvPr>
        </p:nvSpPr>
        <p:spPr>
          <a:xfrm>
            <a:off x="7577640" y="7065720"/>
            <a:ext cx="6197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37" name="PlaceHolder 4"/>
          <p:cNvSpPr>
            <a:spLocks noGrp="1"/>
          </p:cNvSpPr>
          <p:nvPr>
            <p:ph/>
          </p:nvPr>
        </p:nvSpPr>
        <p:spPr>
          <a:xfrm>
            <a:off x="14085360" y="7065720"/>
            <a:ext cx="6197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38" name="PlaceHolder 5"/>
          <p:cNvSpPr>
            <a:spLocks noGrp="1"/>
          </p:cNvSpPr>
          <p:nvPr>
            <p:ph/>
          </p:nvPr>
        </p:nvSpPr>
        <p:spPr>
          <a:xfrm>
            <a:off x="1069920" y="17503200"/>
            <a:ext cx="6197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39" name="PlaceHolder 6"/>
          <p:cNvSpPr>
            <a:spLocks noGrp="1"/>
          </p:cNvSpPr>
          <p:nvPr>
            <p:ph/>
          </p:nvPr>
        </p:nvSpPr>
        <p:spPr>
          <a:xfrm>
            <a:off x="7577640" y="17503200"/>
            <a:ext cx="6197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40" name="PlaceHolder 7"/>
          <p:cNvSpPr>
            <a:spLocks noGrp="1"/>
          </p:cNvSpPr>
          <p:nvPr>
            <p:ph/>
          </p:nvPr>
        </p:nvSpPr>
        <p:spPr>
          <a:xfrm>
            <a:off x="14085360" y="17503200"/>
            <a:ext cx="6197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F2E90-AF65-4BA8-A42D-175F328EC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endParaRPr b="0" lang="en-US" sz="14200" spc="-1" strike="noStrike">
              <a:solidFill>
                <a:srgbClr val="000000"/>
              </a:solidFill>
              <a:latin typeface="Calibri"/>
            </a:endParaRPr>
          </a:p>
        </p:txBody>
      </p:sp>
      <p:sp>
        <p:nvSpPr>
          <p:cNvPr id="6" name="PlaceHolder 2"/>
          <p:cNvSpPr>
            <a:spLocks noGrp="1"/>
          </p:cNvSpPr>
          <p:nvPr>
            <p:ph type="subTitle"/>
          </p:nvPr>
        </p:nvSpPr>
        <p:spPr>
          <a:xfrm>
            <a:off x="1069920" y="7065720"/>
            <a:ext cx="19247040" cy="19983240"/>
          </a:xfrm>
          <a:prstGeom prst="rect">
            <a:avLst/>
          </a:prstGeom>
          <a:noFill/>
          <a:ln w="0">
            <a:noFill/>
          </a:ln>
        </p:spPr>
        <p:txBody>
          <a:bodyPr lIns="0" rIns="0" tIns="0" bIns="0" anchor="ctr">
            <a:noAutofit/>
          </a:bodyPr>
          <a:p>
            <a:pPr indent="0" algn="ctr">
              <a:spcBef>
                <a:spcPts val="2574"/>
              </a:spcBef>
              <a:buNone/>
              <a:tabLst>
                <a:tab algn="l" pos="0"/>
                <a:tab algn="l" pos="2951280"/>
                <a:tab algn="l" pos="5902200"/>
                <a:tab algn="l" pos="8853480"/>
              </a:tabLst>
            </a:pPr>
            <a:endParaRPr b="0" lang="en-US" sz="103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18F50-1304-4CF4-AFC7-F285C6D6C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endParaRPr b="0" lang="en-US" sz="14200" spc="-1" strike="noStrike">
              <a:solidFill>
                <a:srgbClr val="000000"/>
              </a:solidFill>
              <a:latin typeface="Calibri"/>
            </a:endParaRPr>
          </a:p>
        </p:txBody>
      </p:sp>
      <p:sp>
        <p:nvSpPr>
          <p:cNvPr id="8" name="PlaceHolder 2"/>
          <p:cNvSpPr>
            <a:spLocks noGrp="1"/>
          </p:cNvSpPr>
          <p:nvPr>
            <p:ph/>
          </p:nvPr>
        </p:nvSpPr>
        <p:spPr>
          <a:xfrm>
            <a:off x="1069920" y="7065720"/>
            <a:ext cx="19247040" cy="1998324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B37BA-25B5-4C1C-8F6D-9B484CA9B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endParaRPr b="0" lang="en-US" sz="14200" spc="-1" strike="noStrike">
              <a:solidFill>
                <a:srgbClr val="000000"/>
              </a:solidFill>
              <a:latin typeface="Calibri"/>
            </a:endParaRPr>
          </a:p>
        </p:txBody>
      </p:sp>
      <p:sp>
        <p:nvSpPr>
          <p:cNvPr id="10" name="PlaceHolder 2"/>
          <p:cNvSpPr>
            <a:spLocks noGrp="1"/>
          </p:cNvSpPr>
          <p:nvPr>
            <p:ph/>
          </p:nvPr>
        </p:nvSpPr>
        <p:spPr>
          <a:xfrm>
            <a:off x="1069920" y="7065720"/>
            <a:ext cx="9392400" cy="1998324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11" name="PlaceHolder 3"/>
          <p:cNvSpPr>
            <a:spLocks noGrp="1"/>
          </p:cNvSpPr>
          <p:nvPr>
            <p:ph/>
          </p:nvPr>
        </p:nvSpPr>
        <p:spPr>
          <a:xfrm>
            <a:off x="10932480" y="7065720"/>
            <a:ext cx="9392400" cy="1998324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FF119-136B-4CA3-9AEE-76C4AE8B3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endParaRPr b="0" lang="en-US" sz="14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E77A4-D8A3-4BA1-8FA7-4E012F766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9920" y="1212480"/>
            <a:ext cx="19247040" cy="23395320"/>
          </a:xfrm>
          <a:prstGeom prst="rect">
            <a:avLst/>
          </a:prstGeom>
          <a:noFill/>
          <a:ln w="0">
            <a:noFill/>
          </a:ln>
        </p:spPr>
        <p:txBody>
          <a:bodyPr lIns="0" rIns="0" tIns="0" bIns="0" anchor="ctr">
            <a:noAutofit/>
          </a:bodyPr>
          <a:p>
            <a:pPr algn="ctr">
              <a:spcBef>
                <a:spcPts val="2574"/>
              </a:spcBef>
              <a:tabLst>
                <a:tab algn="l" pos="0"/>
                <a:tab algn="l" pos="2951280"/>
                <a:tab algn="l" pos="5902200"/>
                <a:tab algn="l" pos="8853480"/>
              </a:tabLst>
            </a:pPr>
            <a:endParaRPr b="0" lang="en-US" sz="103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15E59-B59D-4E80-9D10-F5D82FF40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endParaRPr b="0" lang="en-US" sz="14200" spc="-1" strike="noStrike">
              <a:solidFill>
                <a:srgbClr val="000000"/>
              </a:solidFill>
              <a:latin typeface="Calibri"/>
            </a:endParaRPr>
          </a:p>
        </p:txBody>
      </p:sp>
      <p:sp>
        <p:nvSpPr>
          <p:cNvPr id="15" name="PlaceHolder 2"/>
          <p:cNvSpPr>
            <a:spLocks noGrp="1"/>
          </p:cNvSpPr>
          <p:nvPr>
            <p:ph/>
          </p:nvPr>
        </p:nvSpPr>
        <p:spPr>
          <a:xfrm>
            <a:off x="1069920" y="7065720"/>
            <a:ext cx="9392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16" name="PlaceHolder 3"/>
          <p:cNvSpPr>
            <a:spLocks noGrp="1"/>
          </p:cNvSpPr>
          <p:nvPr>
            <p:ph/>
          </p:nvPr>
        </p:nvSpPr>
        <p:spPr>
          <a:xfrm>
            <a:off x="10932480" y="7065720"/>
            <a:ext cx="9392400" cy="1998324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17" name="PlaceHolder 4"/>
          <p:cNvSpPr>
            <a:spLocks noGrp="1"/>
          </p:cNvSpPr>
          <p:nvPr>
            <p:ph/>
          </p:nvPr>
        </p:nvSpPr>
        <p:spPr>
          <a:xfrm>
            <a:off x="1069920" y="17503200"/>
            <a:ext cx="9392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E132B-67FE-4804-843C-F3564D5AE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endParaRPr b="0" lang="en-US" sz="14200" spc="-1" strike="noStrike">
              <a:solidFill>
                <a:srgbClr val="000000"/>
              </a:solidFill>
              <a:latin typeface="Calibri"/>
            </a:endParaRPr>
          </a:p>
        </p:txBody>
      </p:sp>
      <p:sp>
        <p:nvSpPr>
          <p:cNvPr id="19" name="PlaceHolder 2"/>
          <p:cNvSpPr>
            <a:spLocks noGrp="1"/>
          </p:cNvSpPr>
          <p:nvPr>
            <p:ph/>
          </p:nvPr>
        </p:nvSpPr>
        <p:spPr>
          <a:xfrm>
            <a:off x="1069920" y="7065720"/>
            <a:ext cx="9392400" cy="1998324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20" name="PlaceHolder 3"/>
          <p:cNvSpPr>
            <a:spLocks noGrp="1"/>
          </p:cNvSpPr>
          <p:nvPr>
            <p:ph/>
          </p:nvPr>
        </p:nvSpPr>
        <p:spPr>
          <a:xfrm>
            <a:off x="10932480" y="7065720"/>
            <a:ext cx="9392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21" name="PlaceHolder 4"/>
          <p:cNvSpPr>
            <a:spLocks noGrp="1"/>
          </p:cNvSpPr>
          <p:nvPr>
            <p:ph/>
          </p:nvPr>
        </p:nvSpPr>
        <p:spPr>
          <a:xfrm>
            <a:off x="10932480" y="17503200"/>
            <a:ext cx="9392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EB756-45FD-46AB-92B7-1F2674CDA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endParaRPr b="0" lang="en-US" sz="14200" spc="-1" strike="noStrike">
              <a:solidFill>
                <a:srgbClr val="000000"/>
              </a:solidFill>
              <a:latin typeface="Calibri"/>
            </a:endParaRPr>
          </a:p>
        </p:txBody>
      </p:sp>
      <p:sp>
        <p:nvSpPr>
          <p:cNvPr id="23" name="PlaceHolder 2"/>
          <p:cNvSpPr>
            <a:spLocks noGrp="1"/>
          </p:cNvSpPr>
          <p:nvPr>
            <p:ph/>
          </p:nvPr>
        </p:nvSpPr>
        <p:spPr>
          <a:xfrm>
            <a:off x="1069920" y="7065720"/>
            <a:ext cx="9392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24" name="PlaceHolder 3"/>
          <p:cNvSpPr>
            <a:spLocks noGrp="1"/>
          </p:cNvSpPr>
          <p:nvPr>
            <p:ph/>
          </p:nvPr>
        </p:nvSpPr>
        <p:spPr>
          <a:xfrm>
            <a:off x="10932480" y="7065720"/>
            <a:ext cx="939240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25" name="PlaceHolder 4"/>
          <p:cNvSpPr>
            <a:spLocks noGrp="1"/>
          </p:cNvSpPr>
          <p:nvPr>
            <p:ph/>
          </p:nvPr>
        </p:nvSpPr>
        <p:spPr>
          <a:xfrm>
            <a:off x="1069920" y="17503200"/>
            <a:ext cx="19247040" cy="9531720"/>
          </a:xfrm>
          <a:prstGeom prst="rect">
            <a:avLst/>
          </a:prstGeom>
          <a:noFill/>
          <a:ln w="0">
            <a:noFill/>
          </a:ln>
        </p:spPr>
        <p:txBody>
          <a:bodyPr lIns="295200" rIns="295200" tIns="147600" bIns="147600" anchor="t">
            <a:normAutofit/>
          </a:bodyPr>
          <a:p>
            <a:pPr indent="0">
              <a:spcBef>
                <a:spcPts val="2574"/>
              </a:spcBef>
              <a:buNone/>
              <a:tabLst>
                <a:tab algn="l" pos="2951280"/>
                <a:tab algn="l" pos="5902200"/>
                <a:tab algn="l" pos="8853480"/>
              </a:tabLst>
            </a:pPr>
            <a:endParaRPr b="0" lang="en-US" sz="103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E64B8-4D31-46DC-BE01-4F52B2294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1280"/>
                <a:tab algn="l" pos="5902200"/>
                <a:tab algn="l" pos="8853480"/>
              </a:tabLst>
            </a:pPr>
            <a:r>
              <a:rPr b="0" lang="en-US" sz="14200" spc="-1" strike="noStrike">
                <a:solidFill>
                  <a:srgbClr val="000000"/>
                </a:solidFill>
                <a:latin typeface="Calibri"/>
              </a:rPr>
              <a:t>Click to edit the title text format</a:t>
            </a:r>
            <a:endParaRPr b="0" lang="en-US" sz="14200" spc="-1" strike="noStrike">
              <a:solidFill>
                <a:srgbClr val="000000"/>
              </a:solidFill>
              <a:latin typeface="Calibri"/>
            </a:endParaRPr>
          </a:p>
        </p:txBody>
      </p:sp>
      <p:sp>
        <p:nvSpPr>
          <p:cNvPr id="1" name="PlaceHolder 2"/>
          <p:cNvSpPr>
            <a:spLocks noGrp="1"/>
          </p:cNvSpPr>
          <p:nvPr>
            <p:ph type="body"/>
          </p:nvPr>
        </p:nvSpPr>
        <p:spPr>
          <a:xfrm>
            <a:off x="1069920" y="7065720"/>
            <a:ext cx="19247040" cy="19983240"/>
          </a:xfrm>
          <a:prstGeom prst="rect">
            <a:avLst/>
          </a:prstGeom>
          <a:noFill/>
          <a:ln w="0">
            <a:noFill/>
          </a:ln>
        </p:spPr>
        <p:txBody>
          <a:bodyPr lIns="295200" rIns="295200" tIns="147600" bIns="147600" anchor="t">
            <a:normAutofit/>
          </a:bodyPr>
          <a:p>
            <a:pPr marL="1106640" indent="-1106640">
              <a:spcBef>
                <a:spcPts val="2574"/>
              </a:spcBef>
              <a:buClr>
                <a:srgbClr val="000000"/>
              </a:buClr>
              <a:buFont typeface="Arial"/>
              <a:buChar char="•"/>
              <a:tabLst>
                <a:tab algn="l" pos="2951280"/>
                <a:tab algn="l" pos="5902200"/>
                <a:tab algn="l" pos="8853480"/>
              </a:tabLst>
            </a:pPr>
            <a:r>
              <a:rPr b="0" lang="en-US" sz="10300" spc="-1" strike="noStrike">
                <a:solidFill>
                  <a:srgbClr val="000000"/>
                </a:solidFill>
                <a:latin typeface="Calibri"/>
              </a:rPr>
              <a:t>Click to edit the outline text format</a:t>
            </a:r>
            <a:endParaRPr b="0" lang="en-US" sz="10300" spc="-1" strike="noStrike">
              <a:solidFill>
                <a:srgbClr val="000000"/>
              </a:solidFill>
              <a:latin typeface="Calibri"/>
            </a:endParaRPr>
          </a:p>
          <a:p>
            <a:pPr lvl="1" marL="2398680" indent="-922320">
              <a:spcBef>
                <a:spcPts val="2574"/>
              </a:spcBef>
              <a:buClr>
                <a:srgbClr val="000000"/>
              </a:buClr>
              <a:buFont typeface="Arial"/>
              <a:buChar char="–"/>
              <a:tabLst>
                <a:tab algn="l" pos="2951280"/>
                <a:tab algn="l" pos="5902200"/>
                <a:tab algn="l" pos="8853480"/>
              </a:tabLst>
            </a:pPr>
            <a:r>
              <a:rPr b="0" lang="en-US" sz="10300" spc="-1" strike="noStrike">
                <a:solidFill>
                  <a:srgbClr val="000000"/>
                </a:solidFill>
                <a:latin typeface="Calibri"/>
              </a:rPr>
              <a:t>Second Outline Level</a:t>
            </a:r>
            <a:endParaRPr b="0" lang="en-US" sz="10300" spc="-1" strike="noStrike">
              <a:solidFill>
                <a:srgbClr val="000000"/>
              </a:solidFill>
              <a:latin typeface="Calibri"/>
            </a:endParaRPr>
          </a:p>
          <a:p>
            <a:pPr lvl="2" marL="3689280" indent="-736560">
              <a:spcBef>
                <a:spcPts val="2574"/>
              </a:spcBef>
              <a:buClr>
                <a:srgbClr val="000000"/>
              </a:buClr>
              <a:buFont typeface="Arial"/>
              <a:buChar char="•"/>
              <a:tabLst>
                <a:tab algn="l" pos="2951280"/>
                <a:tab algn="l" pos="5902200"/>
                <a:tab algn="l" pos="8853480"/>
              </a:tabLst>
            </a:pPr>
            <a:r>
              <a:rPr b="0" lang="en-US" sz="10300" spc="-1" strike="noStrike">
                <a:solidFill>
                  <a:srgbClr val="000000"/>
                </a:solidFill>
                <a:latin typeface="Calibri"/>
              </a:rPr>
              <a:t>Third Outline Level</a:t>
            </a:r>
            <a:endParaRPr b="0" lang="en-US" sz="10300" spc="-1" strike="noStrike">
              <a:solidFill>
                <a:srgbClr val="000000"/>
              </a:solidFill>
              <a:latin typeface="Calibri"/>
            </a:endParaRPr>
          </a:p>
          <a:p>
            <a:pPr lvl="3" marL="5165640" indent="-736560">
              <a:spcBef>
                <a:spcPts val="2574"/>
              </a:spcBef>
              <a:buClr>
                <a:srgbClr val="000000"/>
              </a:buClr>
              <a:buFont typeface="Arial"/>
              <a:buChar char="–"/>
              <a:tabLst>
                <a:tab algn="l" pos="2951280"/>
                <a:tab algn="l" pos="5902200"/>
                <a:tab algn="l" pos="8853480"/>
              </a:tabLst>
            </a:pPr>
            <a:r>
              <a:rPr b="0" lang="en-US" sz="10300" spc="-1" strike="noStrike">
                <a:solidFill>
                  <a:srgbClr val="000000"/>
                </a:solidFill>
                <a:latin typeface="Calibri"/>
              </a:rPr>
              <a:t>Fourth Outline Level</a:t>
            </a:r>
            <a:endParaRPr b="0" lang="en-US" sz="10300" spc="-1" strike="noStrike">
              <a:solidFill>
                <a:srgbClr val="000000"/>
              </a:solidFill>
              <a:latin typeface="Calibri"/>
            </a:endParaRPr>
          </a:p>
          <a:p>
            <a:pPr lvl="4" marL="6642000" indent="-736560">
              <a:spcBef>
                <a:spcPts val="2574"/>
              </a:spcBef>
              <a:buClr>
                <a:srgbClr val="000000"/>
              </a:buClr>
              <a:buFont typeface="Arial"/>
              <a:buChar char="»"/>
              <a:tabLst>
                <a:tab algn="l" pos="2951280"/>
                <a:tab algn="l" pos="5902200"/>
                <a:tab algn="l" pos="8853480"/>
              </a:tabLst>
            </a:pPr>
            <a:r>
              <a:rPr b="0" lang="en-US" sz="10300" spc="-1" strike="noStrike">
                <a:solidFill>
                  <a:srgbClr val="000000"/>
                </a:solidFill>
                <a:latin typeface="Calibri"/>
              </a:rPr>
              <a:t>Fifth Outline Level</a:t>
            </a:r>
            <a:endParaRPr b="0" lang="en-US" sz="10300" spc="-1" strike="noStrike">
              <a:solidFill>
                <a:srgbClr val="000000"/>
              </a:solidFill>
              <a:latin typeface="Calibri"/>
            </a:endParaRPr>
          </a:p>
          <a:p>
            <a:pPr lvl="5" marL="6642000" indent="-736560">
              <a:spcBef>
                <a:spcPts val="2574"/>
              </a:spcBef>
              <a:buClr>
                <a:srgbClr val="000000"/>
              </a:buClr>
              <a:buFont typeface="Arial"/>
              <a:buChar char="»"/>
              <a:tabLst>
                <a:tab algn="l" pos="2951280"/>
                <a:tab algn="l" pos="5902200"/>
                <a:tab algn="l" pos="8853480"/>
              </a:tabLst>
            </a:pPr>
            <a:r>
              <a:rPr b="0" lang="en-US" sz="10300" spc="-1" strike="noStrike">
                <a:solidFill>
                  <a:srgbClr val="000000"/>
                </a:solidFill>
                <a:latin typeface="Calibri"/>
              </a:rPr>
              <a:t>Sixth Outline Level</a:t>
            </a:r>
            <a:endParaRPr b="0" lang="en-US" sz="10300" spc="-1" strike="noStrike">
              <a:solidFill>
                <a:srgbClr val="000000"/>
              </a:solidFill>
              <a:latin typeface="Calibri"/>
            </a:endParaRPr>
          </a:p>
          <a:p>
            <a:pPr lvl="6" marL="6642000" indent="-736560">
              <a:spcBef>
                <a:spcPts val="2574"/>
              </a:spcBef>
              <a:buClr>
                <a:srgbClr val="000000"/>
              </a:buClr>
              <a:buFont typeface="Arial"/>
              <a:buChar char="»"/>
              <a:tabLst>
                <a:tab algn="l" pos="2951280"/>
                <a:tab algn="l" pos="5902200"/>
                <a:tab algn="l" pos="8853480"/>
              </a:tabLst>
            </a:pPr>
            <a:r>
              <a:rPr b="0" lang="en-US" sz="10300" spc="-1" strike="noStrike">
                <a:solidFill>
                  <a:srgbClr val="000000"/>
                </a:solidFill>
                <a:latin typeface="Calibri"/>
              </a:rPr>
              <a:t>Seventh Outline Level</a:t>
            </a:r>
            <a:endParaRPr b="0" lang="en-US" sz="10300" spc="-1" strike="noStrike">
              <a:solidFill>
                <a:srgbClr val="000000"/>
              </a:solidFill>
              <a:latin typeface="Calibri"/>
            </a:endParaRPr>
          </a:p>
        </p:txBody>
      </p:sp>
      <p:sp>
        <p:nvSpPr>
          <p:cNvPr id="2" name="PlaceHolder 3"/>
          <p:cNvSpPr>
            <a:spLocks noGrp="1"/>
          </p:cNvSpPr>
          <p:nvPr>
            <p:ph type="dt" idx="1"/>
          </p:nvPr>
        </p:nvSpPr>
        <p:spPr>
          <a:xfrm>
            <a:off x="1069920" y="28065240"/>
            <a:ext cx="4989600" cy="1611360"/>
          </a:xfrm>
          <a:prstGeom prst="rect">
            <a:avLst/>
          </a:prstGeom>
          <a:noFill/>
          <a:ln w="0">
            <a:noFill/>
          </a:ln>
        </p:spPr>
        <p:txBody>
          <a:bodyPr lIns="295200" rIns="295200" tIns="147600" bIns="147600" anchor="ctr">
            <a:noAutofit/>
          </a:bodyPr>
          <a:lstStyle>
            <a:lvl1pPr indent="0">
              <a:lnSpc>
                <a:spcPct val="100000"/>
              </a:lnSpc>
              <a:buNone/>
              <a:tabLst>
                <a:tab algn="l" pos="0"/>
                <a:tab algn="l" pos="2951280"/>
                <a:tab algn="l" pos="5902200"/>
                <a:tab algn="l" pos="8853480"/>
              </a:tabLst>
              <a:defRPr b="0" lang="es-ES" sz="3900" spc="-1" strike="noStrike">
                <a:solidFill>
                  <a:srgbClr val="898989"/>
                </a:solidFill>
                <a:latin typeface="Calibri"/>
              </a:defRPr>
            </a:lvl1pPr>
          </a:lstStyle>
          <a:p>
            <a:pPr indent="0">
              <a:lnSpc>
                <a:spcPct val="100000"/>
              </a:lnSpc>
              <a:buNone/>
              <a:tabLst>
                <a:tab algn="l" pos="0"/>
                <a:tab algn="l" pos="2951280"/>
                <a:tab algn="l" pos="5902200"/>
                <a:tab algn="l" pos="8853480"/>
              </a:tabLst>
            </a:pPr>
            <a:r>
              <a:rPr b="0" lang="es-ES" sz="3900" spc="-1" strike="noStrike">
                <a:solidFill>
                  <a:srgbClr val="898989"/>
                </a:solidFill>
                <a:latin typeface="Calibri"/>
              </a:rPr>
              <a:t>&lt;date/time&gt;</a:t>
            </a:r>
            <a:endParaRPr b="0" lang="en-US" sz="3900" spc="-1" strike="noStrike">
              <a:solidFill>
                <a:srgbClr val="000000"/>
              </a:solidFill>
              <a:latin typeface="Arial"/>
            </a:endParaRPr>
          </a:p>
        </p:txBody>
      </p:sp>
      <p:sp>
        <p:nvSpPr>
          <p:cNvPr id="3" name="PlaceHolder 4"/>
          <p:cNvSpPr>
            <a:spLocks noGrp="1"/>
          </p:cNvSpPr>
          <p:nvPr>
            <p:ph type="ftr" idx="2"/>
          </p:nvPr>
        </p:nvSpPr>
        <p:spPr>
          <a:xfrm>
            <a:off x="7307280" y="28065240"/>
            <a:ext cx="6772320" cy="1611360"/>
          </a:xfrm>
          <a:prstGeom prst="rect">
            <a:avLst/>
          </a:prstGeom>
          <a:noFill/>
          <a:ln w="0">
            <a:noFill/>
          </a:ln>
        </p:spPr>
        <p:txBody>
          <a:bodyPr lIns="295200" rIns="295200" tIns="147600" bIns="147600" anchor="ctr">
            <a:noAutofit/>
          </a:bodyPr>
          <a:p>
            <a:pPr indent="0">
              <a:buNone/>
              <a:tabLst>
                <a:tab algn="l" pos="0"/>
                <a:tab algn="l" pos="2951280"/>
                <a:tab algn="l" pos="5902200"/>
                <a:tab algn="l" pos="8853480"/>
              </a:tabLst>
            </a:pPr>
            <a:endParaRPr b="0" lang="en-US" sz="5800" spc="-1" strike="noStrike">
              <a:solidFill>
                <a:srgbClr val="000000"/>
              </a:solidFill>
              <a:latin typeface="Arial"/>
            </a:endParaRPr>
          </a:p>
        </p:txBody>
      </p:sp>
      <p:sp>
        <p:nvSpPr>
          <p:cNvPr id="4" name="PlaceHolder 5"/>
          <p:cNvSpPr>
            <a:spLocks noGrp="1"/>
          </p:cNvSpPr>
          <p:nvPr>
            <p:ph type="sldNum" idx="3"/>
          </p:nvPr>
        </p:nvSpPr>
        <p:spPr>
          <a:xfrm>
            <a:off x="15327360" y="28065240"/>
            <a:ext cx="4989600" cy="1611360"/>
          </a:xfrm>
          <a:prstGeom prst="rect">
            <a:avLst/>
          </a:prstGeom>
          <a:noFill/>
          <a:ln w="0">
            <a:noFill/>
          </a:ln>
        </p:spPr>
        <p:txBody>
          <a:bodyPr lIns="295200" rIns="295200" tIns="147600" bIns="147600" anchor="ctr">
            <a:noAutofit/>
          </a:bodyPr>
          <a:lstStyle>
            <a:lvl1pPr indent="0" algn="r">
              <a:lnSpc>
                <a:spcPct val="100000"/>
              </a:lnSpc>
              <a:buNone/>
              <a:tabLst>
                <a:tab algn="l" pos="0"/>
                <a:tab algn="l" pos="2951280"/>
                <a:tab algn="l" pos="5902200"/>
                <a:tab algn="l" pos="8853480"/>
              </a:tabLst>
              <a:defRPr b="0" lang="es-ES" sz="3900" spc="-1" strike="noStrike">
                <a:solidFill>
                  <a:srgbClr val="898989"/>
                </a:solidFill>
                <a:latin typeface="Calibri"/>
              </a:defRPr>
            </a:lvl1pPr>
          </a:lstStyle>
          <a:p>
            <a:pPr indent="0" algn="r">
              <a:lnSpc>
                <a:spcPct val="100000"/>
              </a:lnSpc>
              <a:buNone/>
              <a:tabLst>
                <a:tab algn="l" pos="0"/>
                <a:tab algn="l" pos="2951280"/>
                <a:tab algn="l" pos="5902200"/>
                <a:tab algn="l" pos="8853480"/>
              </a:tabLst>
            </a:pPr>
            <a:fld id="{B173F86F-DBDC-4A79-8974-019172E91B1E}" type="slidenum">
              <a:rPr b="0" lang="es-ES" sz="3900" spc="-1" strike="noStrike">
                <a:solidFill>
                  <a:srgbClr val="898989"/>
                </a:solidFill>
                <a:latin typeface="Calibri"/>
              </a:rPr>
              <a:t>&lt;number&gt;</a:t>
            </a:fld>
            <a:endParaRPr b="0" lang="en-US" sz="3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99 Lágrima"/>
          <p:cNvSpPr/>
          <p:nvPr/>
        </p:nvSpPr>
        <p:spPr>
          <a:xfrm rot="5400000">
            <a:off x="548640" y="3852720"/>
            <a:ext cx="1500480" cy="1500120"/>
          </a:xfrm>
          <a:custGeom>
            <a:avLst/>
            <a:gdLst/>
            <a:ahLst/>
            <a:rect l="l" t="t" r="r" b="b"/>
            <a:pathLst>
              <a:path w="1500187" h="1500188">
                <a:moveTo>
                  <a:pt x="0" y="750094"/>
                </a:moveTo>
                <a:cubicBezTo>
                  <a:pt x="0" y="335829"/>
                  <a:pt x="335829" y="0"/>
                  <a:pt x="750094" y="0"/>
                </a:cubicBezTo>
                <a:lnTo>
                  <a:pt x="1500187" y="0"/>
                </a:lnTo>
                <a:lnTo>
                  <a:pt x="1500187" y="750094"/>
                </a:lnTo>
                <a:cubicBezTo>
                  <a:pt x="1500187" y="1164359"/>
                  <a:pt x="1164358" y="1500188"/>
                  <a:pt x="750093" y="1500188"/>
                </a:cubicBezTo>
                <a:cubicBezTo>
                  <a:pt x="335828" y="1500188"/>
                  <a:pt x="-1" y="1164359"/>
                  <a:pt x="-1" y="750094"/>
                </a:cubicBezTo>
                <a:lnTo>
                  <a:pt x="0" y="750094"/>
                </a:lnTo>
                <a:close/>
              </a:path>
            </a:pathLst>
          </a:custGeom>
          <a:solidFill>
            <a:srgbClr val="212f3f"/>
          </a:solidFill>
          <a:ln w="0">
            <a:noFill/>
          </a:ln>
        </p:spPr>
        <p:style>
          <a:lnRef idx="0"/>
          <a:fillRef idx="0"/>
          <a:effectRef idx="0"/>
          <a:fontRef idx="minor"/>
        </p:style>
        <p:txBody>
          <a:bodyPr lIns="90000" rIns="90000" tIns="46800" bIns="46800" anchor="ctr">
            <a:noAutofit/>
          </a:bodyPr>
          <a:p>
            <a:endParaRPr b="0" lang="en-US" sz="5800" spc="-1" strike="noStrike">
              <a:solidFill>
                <a:srgbClr val="000000"/>
              </a:solidFill>
              <a:latin typeface="Arial"/>
            </a:endParaRPr>
          </a:p>
        </p:txBody>
      </p:sp>
      <p:grpSp>
        <p:nvGrpSpPr>
          <p:cNvPr id="42" name="87 Grupo"/>
          <p:cNvGrpSpPr/>
          <p:nvPr/>
        </p:nvGrpSpPr>
        <p:grpSpPr>
          <a:xfrm>
            <a:off x="-1440" y="-360"/>
            <a:ext cx="15500160" cy="3302280"/>
            <a:chOff x="-1440" y="-360"/>
            <a:chExt cx="15500160" cy="3302280"/>
          </a:xfrm>
        </p:grpSpPr>
        <p:sp>
          <p:nvSpPr>
            <p:cNvPr id="43" name="Rectangle 76"/>
            <p:cNvSpPr/>
            <p:nvPr/>
          </p:nvSpPr>
          <p:spPr>
            <a:xfrm>
              <a:off x="-1440" y="0"/>
              <a:ext cx="14071680" cy="3301920"/>
            </a:xfrm>
            <a:prstGeom prst="rect">
              <a:avLst/>
            </a:prstGeom>
            <a:solidFill>
              <a:srgbClr val="e921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2951280"/>
                  <a:tab algn="l" pos="5902200"/>
                  <a:tab algn="l" pos="8853480"/>
                </a:tabLst>
              </a:pPr>
              <a:endParaRPr b="0" lang="en-US" sz="5800" spc="-1" strike="noStrike">
                <a:solidFill>
                  <a:srgbClr val="000000"/>
                </a:solidFill>
                <a:latin typeface="Arial"/>
              </a:endParaRPr>
            </a:p>
          </p:txBody>
        </p:sp>
        <p:sp>
          <p:nvSpPr>
            <p:cNvPr id="44" name="84 Triángulo rectángulo"/>
            <p:cNvSpPr/>
            <p:nvPr/>
          </p:nvSpPr>
          <p:spPr>
            <a:xfrm flipH="1" rot="10800000">
              <a:off x="14070240" y="-360"/>
              <a:ext cx="1428480" cy="3281400"/>
            </a:xfrm>
            <a:prstGeom prst="rtTriangle">
              <a:avLst/>
            </a:prstGeom>
            <a:solidFill>
              <a:srgbClr val="e921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2951280"/>
                  <a:tab algn="l" pos="5902200"/>
                  <a:tab algn="l" pos="8853480"/>
                </a:tabLst>
              </a:pPr>
              <a:endParaRPr b="0" lang="en-US" sz="5800" spc="-1" strike="noStrike">
                <a:solidFill>
                  <a:srgbClr val="000000"/>
                </a:solidFill>
                <a:latin typeface="Arial"/>
              </a:endParaRPr>
            </a:p>
          </p:txBody>
        </p:sp>
      </p:grpSp>
      <p:sp>
        <p:nvSpPr>
          <p:cNvPr id="45" name="TextBox 6"/>
          <p:cNvSpPr/>
          <p:nvPr/>
        </p:nvSpPr>
        <p:spPr>
          <a:xfrm>
            <a:off x="-179280" y="665280"/>
            <a:ext cx="1267308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2951280"/>
                <a:tab algn="l" pos="5902200"/>
                <a:tab algn="l" pos="8853480"/>
              </a:tabLst>
            </a:pPr>
            <a:r>
              <a:rPr b="1" lang="en-US" sz="10000" spc="-1" strike="noStrike">
                <a:solidFill>
                  <a:srgbClr val="ffffff"/>
                </a:solidFill>
                <a:latin typeface="Roboto Black"/>
              </a:rPr>
              <a:t>Sampler 3.0</a:t>
            </a:r>
            <a:endParaRPr b="0" lang="en-US" sz="10000" spc="-1" strike="noStrike">
              <a:solidFill>
                <a:srgbClr val="000000"/>
              </a:solidFill>
              <a:latin typeface="Arial"/>
            </a:endParaRPr>
          </a:p>
        </p:txBody>
      </p:sp>
      <p:sp>
        <p:nvSpPr>
          <p:cNvPr id="46" name="Rectangle 119"/>
          <p:cNvSpPr/>
          <p:nvPr/>
        </p:nvSpPr>
        <p:spPr>
          <a:xfrm>
            <a:off x="0" y="26712720"/>
            <a:ext cx="21386880" cy="3567240"/>
          </a:xfrm>
          <a:prstGeom prst="rect">
            <a:avLst/>
          </a:prstGeom>
          <a:solidFill>
            <a:srgbClr val="1f23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2951280"/>
                <a:tab algn="l" pos="5902200"/>
                <a:tab algn="l" pos="8853480"/>
              </a:tabLst>
            </a:pPr>
            <a:endParaRPr b="0" lang="en-US" sz="5800" spc="-1" strike="noStrike">
              <a:solidFill>
                <a:srgbClr val="000000"/>
              </a:solidFill>
              <a:latin typeface="Arial"/>
            </a:endParaRPr>
          </a:p>
        </p:txBody>
      </p:sp>
      <p:sp>
        <p:nvSpPr>
          <p:cNvPr id="47" name="TextBox 14"/>
          <p:cNvSpPr/>
          <p:nvPr/>
        </p:nvSpPr>
        <p:spPr>
          <a:xfrm>
            <a:off x="701640" y="27109800"/>
            <a:ext cx="5062680" cy="2506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2951280"/>
                <a:tab algn="l" pos="5902200"/>
                <a:tab algn="l" pos="8853480"/>
              </a:tabLst>
            </a:pPr>
            <a:r>
              <a:rPr b="1" lang="en-US" sz="4400" spc="-1" strike="noStrike">
                <a:solidFill>
                  <a:srgbClr val="ffffff"/>
                </a:solidFill>
                <a:latin typeface="Roboto Condensed"/>
              </a:rPr>
              <a:t>Premio a la Innovación en  Arte y Tecnología</a:t>
            </a:r>
            <a:endParaRPr b="0" lang="en-US" sz="4400" spc="-1" strike="noStrike">
              <a:solidFill>
                <a:srgbClr val="000000"/>
              </a:solidFill>
              <a:latin typeface="Arial"/>
            </a:endParaRPr>
          </a:p>
        </p:txBody>
      </p:sp>
      <p:sp>
        <p:nvSpPr>
          <p:cNvPr id="48" name="TextBox 6"/>
          <p:cNvSpPr/>
          <p:nvPr/>
        </p:nvSpPr>
        <p:spPr>
          <a:xfrm>
            <a:off x="2192400" y="4638600"/>
            <a:ext cx="794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951280"/>
                <a:tab algn="l" pos="5902200"/>
                <a:tab algn="l" pos="8853480"/>
              </a:tabLst>
            </a:pPr>
            <a:r>
              <a:rPr b="0" lang="en-US" sz="3200" spc="-1" strike="noStrike">
                <a:solidFill>
                  <a:srgbClr val="212f3f"/>
                </a:solidFill>
                <a:latin typeface="Roboto Condensed"/>
              </a:rPr>
              <a:t>PROPUESTA DE VALOR</a:t>
            </a:r>
            <a:endParaRPr b="0" lang="en-US" sz="3200" spc="-1" strike="noStrike">
              <a:solidFill>
                <a:srgbClr val="000000"/>
              </a:solidFill>
              <a:latin typeface="Arial"/>
            </a:endParaRPr>
          </a:p>
        </p:txBody>
      </p:sp>
      <p:grpSp>
        <p:nvGrpSpPr>
          <p:cNvPr id="49" name="85 Grupo"/>
          <p:cNvGrpSpPr/>
          <p:nvPr/>
        </p:nvGrpSpPr>
        <p:grpSpPr>
          <a:xfrm>
            <a:off x="14149440" y="19080"/>
            <a:ext cx="2571840" cy="3279600"/>
            <a:chOff x="14149440" y="19080"/>
            <a:chExt cx="2571840" cy="3279600"/>
          </a:xfrm>
        </p:grpSpPr>
        <p:sp>
          <p:nvSpPr>
            <p:cNvPr id="50" name="79 Paralelogramo"/>
            <p:cNvSpPr/>
            <p:nvPr/>
          </p:nvSpPr>
          <p:spPr>
            <a:xfrm>
              <a:off x="15030360" y="19080"/>
              <a:ext cx="1690920" cy="3279600"/>
            </a:xfrm>
            <a:prstGeom prst="parallelogram">
              <a:avLst>
                <a:gd name="adj" fmla="val 85190"/>
              </a:avLst>
            </a:prstGeom>
            <a:solidFill>
              <a:srgbClr val="dae8a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2951280"/>
                  <a:tab algn="l" pos="5902200"/>
                  <a:tab algn="l" pos="8853480"/>
                </a:tabLst>
              </a:pPr>
              <a:endParaRPr b="0" lang="en-US" sz="5800" spc="-1" strike="noStrike">
                <a:solidFill>
                  <a:srgbClr val="000000"/>
                </a:solidFill>
                <a:latin typeface="Arial"/>
              </a:endParaRPr>
            </a:p>
          </p:txBody>
        </p:sp>
        <p:sp>
          <p:nvSpPr>
            <p:cNvPr id="51" name="80 Paralelogramo"/>
            <p:cNvSpPr/>
            <p:nvPr/>
          </p:nvSpPr>
          <p:spPr>
            <a:xfrm>
              <a:off x="14736600" y="19080"/>
              <a:ext cx="1690920" cy="3279600"/>
            </a:xfrm>
            <a:prstGeom prst="parallelogram">
              <a:avLst>
                <a:gd name="adj" fmla="val 85190"/>
              </a:avLst>
            </a:prstGeom>
            <a:solidFill>
              <a:srgbClr val="56b8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2951280"/>
                  <a:tab algn="l" pos="5902200"/>
                  <a:tab algn="l" pos="8853480"/>
                </a:tabLst>
              </a:pPr>
              <a:endParaRPr b="0" lang="en-US" sz="5800" spc="-1" strike="noStrike">
                <a:solidFill>
                  <a:srgbClr val="000000"/>
                </a:solidFill>
                <a:latin typeface="Arial"/>
              </a:endParaRPr>
            </a:p>
          </p:txBody>
        </p:sp>
        <p:sp>
          <p:nvSpPr>
            <p:cNvPr id="52" name="81 Paralelogramo"/>
            <p:cNvSpPr/>
            <p:nvPr/>
          </p:nvSpPr>
          <p:spPr>
            <a:xfrm>
              <a:off x="14442840" y="19080"/>
              <a:ext cx="1690920" cy="3279600"/>
            </a:xfrm>
            <a:prstGeom prst="parallelogram">
              <a:avLst>
                <a:gd name="adj" fmla="val 85190"/>
              </a:avLst>
            </a:prstGeom>
            <a:solidFill>
              <a:srgbClr val="2567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2951280"/>
                  <a:tab algn="l" pos="5902200"/>
                  <a:tab algn="l" pos="8853480"/>
                </a:tabLst>
              </a:pPr>
              <a:endParaRPr b="0" lang="en-US" sz="5800" spc="-1" strike="noStrike">
                <a:solidFill>
                  <a:srgbClr val="000000"/>
                </a:solidFill>
                <a:latin typeface="Arial"/>
              </a:endParaRPr>
            </a:p>
          </p:txBody>
        </p:sp>
        <p:sp>
          <p:nvSpPr>
            <p:cNvPr id="53" name="82 Paralelogramo"/>
            <p:cNvSpPr/>
            <p:nvPr/>
          </p:nvSpPr>
          <p:spPr>
            <a:xfrm>
              <a:off x="14149440" y="19080"/>
              <a:ext cx="1690920" cy="3279600"/>
            </a:xfrm>
            <a:prstGeom prst="parallelogram">
              <a:avLst>
                <a:gd name="adj" fmla="val 85190"/>
              </a:avLst>
            </a:prstGeom>
            <a:solidFill>
              <a:srgbClr val="212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2951280"/>
                  <a:tab algn="l" pos="5902200"/>
                  <a:tab algn="l" pos="8853480"/>
                </a:tabLst>
              </a:pPr>
              <a:endParaRPr b="0" lang="en-US" sz="5800" spc="-1" strike="noStrike">
                <a:solidFill>
                  <a:srgbClr val="000000"/>
                </a:solidFill>
                <a:latin typeface="Arial"/>
              </a:endParaRPr>
            </a:p>
          </p:txBody>
        </p:sp>
      </p:grpSp>
      <p:sp>
        <p:nvSpPr>
          <p:cNvPr id="54" name="Straight Connector 16"/>
          <p:cNvSpPr/>
          <p:nvPr/>
        </p:nvSpPr>
        <p:spPr>
          <a:xfrm>
            <a:off x="10193400" y="27427320"/>
            <a:ext cx="0" cy="1947960"/>
          </a:xfrm>
          <a:prstGeom prst="line">
            <a:avLst/>
          </a:prstGeom>
          <a:ln w="25560">
            <a:solidFill>
              <a:srgbClr val="e92145"/>
            </a:solidFill>
            <a:miter/>
          </a:ln>
        </p:spPr>
        <p:style>
          <a:lnRef idx="0"/>
          <a:fillRef idx="0"/>
          <a:effectRef idx="0"/>
          <a:fontRef idx="minor"/>
        </p:style>
        <p:txBody>
          <a:bodyPr lIns="90000" rIns="90000" tIns="46800" bIns="46800" anchor="t">
            <a:noAutofit/>
          </a:bodyPr>
          <a:p>
            <a:endParaRPr b="0" lang="en-US" sz="5800" spc="-1" strike="noStrike">
              <a:solidFill>
                <a:srgbClr val="000000"/>
              </a:solidFill>
              <a:latin typeface="Arial"/>
            </a:endParaRPr>
          </a:p>
        </p:txBody>
      </p:sp>
      <p:sp>
        <p:nvSpPr>
          <p:cNvPr id="55" name="TextBox 14"/>
          <p:cNvSpPr/>
          <p:nvPr/>
        </p:nvSpPr>
        <p:spPr>
          <a:xfrm>
            <a:off x="6049800" y="27412920"/>
            <a:ext cx="4214880" cy="228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2951280"/>
                <a:tab algn="l" pos="5902200"/>
                <a:tab algn="l" pos="8853480"/>
              </a:tabLst>
            </a:pPr>
            <a:r>
              <a:rPr b="1" lang="en-US" sz="12000" spc="-1" strike="noStrike">
                <a:solidFill>
                  <a:srgbClr val="e92145"/>
                </a:solidFill>
                <a:latin typeface="Roboto Black"/>
              </a:rPr>
              <a:t>2018</a:t>
            </a:r>
            <a:endParaRPr b="0" lang="en-US" sz="12000" spc="-1" strike="noStrike">
              <a:solidFill>
                <a:srgbClr val="000000"/>
              </a:solidFill>
              <a:latin typeface="Arial"/>
            </a:endParaRPr>
          </a:p>
        </p:txBody>
      </p:sp>
      <p:sp>
        <p:nvSpPr>
          <p:cNvPr id="56" name="Freeform 282"/>
          <p:cNvSpPr/>
          <p:nvPr/>
        </p:nvSpPr>
        <p:spPr>
          <a:xfrm>
            <a:off x="906480" y="4210200"/>
            <a:ext cx="858960" cy="817560"/>
          </a:xfrm>
          <a:custGeom>
            <a:avLst/>
            <a:gdLst/>
            <a:ahLst/>
            <a:rect l="l" t="t" r="r" b="b"/>
            <a:pathLst>
              <a:path w="468765" h="447074">
                <a:moveTo>
                  <a:pt x="234382" y="0"/>
                </a:moveTo>
                <a:cubicBezTo>
                  <a:pt x="240017" y="0"/>
                  <a:pt x="244618" y="3850"/>
                  <a:pt x="248186" y="11550"/>
                </a:cubicBezTo>
                <a:lnTo>
                  <a:pt x="311571" y="139728"/>
                </a:lnTo>
                <a:lnTo>
                  <a:pt x="452990" y="160293"/>
                </a:lnTo>
                <a:cubicBezTo>
                  <a:pt x="463507" y="161983"/>
                  <a:pt x="468765" y="166303"/>
                  <a:pt x="468765" y="173252"/>
                </a:cubicBezTo>
                <a:cubicBezTo>
                  <a:pt x="468765" y="177383"/>
                  <a:pt x="466324" y="181891"/>
                  <a:pt x="461441" y="186774"/>
                </a:cubicBezTo>
                <a:lnTo>
                  <a:pt x="359180" y="286499"/>
                </a:lnTo>
                <a:lnTo>
                  <a:pt x="383407" y="427354"/>
                </a:lnTo>
                <a:cubicBezTo>
                  <a:pt x="383595" y="428669"/>
                  <a:pt x="383689" y="430547"/>
                  <a:pt x="383689" y="432989"/>
                </a:cubicBezTo>
                <a:cubicBezTo>
                  <a:pt x="383689" y="436933"/>
                  <a:pt x="382703" y="440266"/>
                  <a:pt x="380731" y="442989"/>
                </a:cubicBezTo>
                <a:cubicBezTo>
                  <a:pt x="378759" y="445713"/>
                  <a:pt x="375895" y="447074"/>
                  <a:pt x="372139" y="447074"/>
                </a:cubicBezTo>
                <a:cubicBezTo>
                  <a:pt x="368571" y="447074"/>
                  <a:pt x="364814" y="445947"/>
                  <a:pt x="360870" y="443694"/>
                </a:cubicBezTo>
                <a:lnTo>
                  <a:pt x="234382" y="377210"/>
                </a:lnTo>
                <a:lnTo>
                  <a:pt x="107894" y="443694"/>
                </a:lnTo>
                <a:cubicBezTo>
                  <a:pt x="103763" y="445947"/>
                  <a:pt x="100006" y="447074"/>
                  <a:pt x="96626" y="447074"/>
                </a:cubicBezTo>
                <a:cubicBezTo>
                  <a:pt x="92682" y="447074"/>
                  <a:pt x="89724" y="445713"/>
                  <a:pt x="87752" y="442989"/>
                </a:cubicBezTo>
                <a:cubicBezTo>
                  <a:pt x="85780" y="440266"/>
                  <a:pt x="84794" y="436933"/>
                  <a:pt x="84794" y="432989"/>
                </a:cubicBezTo>
                <a:cubicBezTo>
                  <a:pt x="84794" y="431862"/>
                  <a:pt x="84982" y="429984"/>
                  <a:pt x="85358" y="427354"/>
                </a:cubicBezTo>
                <a:lnTo>
                  <a:pt x="109585" y="286499"/>
                </a:lnTo>
                <a:lnTo>
                  <a:pt x="7043" y="186774"/>
                </a:lnTo>
                <a:cubicBezTo>
                  <a:pt x="2347" y="181703"/>
                  <a:pt x="0" y="177196"/>
                  <a:pt x="0" y="173252"/>
                </a:cubicBezTo>
                <a:cubicBezTo>
                  <a:pt x="0" y="166303"/>
                  <a:pt x="5258" y="161983"/>
                  <a:pt x="15775" y="160293"/>
                </a:cubicBezTo>
                <a:lnTo>
                  <a:pt x="157194" y="139728"/>
                </a:lnTo>
                <a:lnTo>
                  <a:pt x="220579" y="11550"/>
                </a:lnTo>
                <a:cubicBezTo>
                  <a:pt x="224147" y="3850"/>
                  <a:pt x="228748" y="0"/>
                  <a:pt x="23438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5800" spc="-1" strike="noStrike">
              <a:solidFill>
                <a:srgbClr val="000000"/>
              </a:solidFill>
              <a:latin typeface="Arial"/>
            </a:endParaRPr>
          </a:p>
        </p:txBody>
      </p:sp>
      <p:sp>
        <p:nvSpPr>
          <p:cNvPr id="57" name="100 Lágrima"/>
          <p:cNvSpPr/>
          <p:nvPr/>
        </p:nvSpPr>
        <p:spPr>
          <a:xfrm rot="5400000">
            <a:off x="548640" y="9788400"/>
            <a:ext cx="1500480" cy="1500120"/>
          </a:xfrm>
          <a:custGeom>
            <a:avLst/>
            <a:gdLst/>
            <a:ahLst/>
            <a:rect l="l" t="t" r="r" b="b"/>
            <a:pathLst>
              <a:path w="1500188" h="1500188">
                <a:moveTo>
                  <a:pt x="0" y="750094"/>
                </a:moveTo>
                <a:cubicBezTo>
                  <a:pt x="0" y="335829"/>
                  <a:pt x="335829" y="0"/>
                  <a:pt x="750094" y="0"/>
                </a:cubicBezTo>
                <a:lnTo>
                  <a:pt x="1500188" y="0"/>
                </a:lnTo>
                <a:lnTo>
                  <a:pt x="1500188" y="750094"/>
                </a:lnTo>
                <a:cubicBezTo>
                  <a:pt x="1500188" y="1164359"/>
                  <a:pt x="1164359" y="1500188"/>
                  <a:pt x="750094" y="1500188"/>
                </a:cubicBezTo>
                <a:cubicBezTo>
                  <a:pt x="335829" y="1500188"/>
                  <a:pt x="0" y="1164359"/>
                  <a:pt x="0" y="750094"/>
                </a:cubicBezTo>
                <a:close/>
              </a:path>
            </a:pathLst>
          </a:custGeom>
          <a:solidFill>
            <a:srgbClr val="25676a"/>
          </a:solidFill>
          <a:ln w="0">
            <a:noFill/>
          </a:ln>
        </p:spPr>
        <p:style>
          <a:lnRef idx="0"/>
          <a:fillRef idx="0"/>
          <a:effectRef idx="0"/>
          <a:fontRef idx="minor"/>
        </p:style>
        <p:txBody>
          <a:bodyPr lIns="90000" rIns="90000" tIns="46800" bIns="46800" anchor="ctr">
            <a:noAutofit/>
          </a:bodyPr>
          <a:p>
            <a:endParaRPr b="0" lang="en-US" sz="5800" spc="-1" strike="noStrike">
              <a:solidFill>
                <a:srgbClr val="000000"/>
              </a:solidFill>
              <a:latin typeface="Arial"/>
            </a:endParaRPr>
          </a:p>
        </p:txBody>
      </p:sp>
      <p:sp>
        <p:nvSpPr>
          <p:cNvPr id="58" name="Straight Connector 3"/>
          <p:cNvSpPr/>
          <p:nvPr/>
        </p:nvSpPr>
        <p:spPr>
          <a:xfrm>
            <a:off x="1301760" y="11282400"/>
            <a:ext cx="8748720" cy="0"/>
          </a:xfrm>
          <a:prstGeom prst="line">
            <a:avLst/>
          </a:prstGeom>
          <a:ln w="28440">
            <a:solidFill>
              <a:srgbClr val="25676a"/>
            </a:solidFill>
            <a:miter/>
          </a:ln>
        </p:spPr>
        <p:style>
          <a:lnRef idx="0"/>
          <a:fillRef idx="0"/>
          <a:effectRef idx="0"/>
          <a:fontRef idx="minor"/>
        </p:style>
        <p:txBody>
          <a:bodyPr lIns="90000" rIns="90000" tIns="-46800" bIns="-46800" anchor="t">
            <a:noAutofit/>
          </a:bodyPr>
          <a:p>
            <a:endParaRPr b="0" lang="en-US" sz="5800" spc="-1" strike="noStrike">
              <a:solidFill>
                <a:srgbClr val="000000"/>
              </a:solidFill>
              <a:latin typeface="Arial"/>
            </a:endParaRPr>
          </a:p>
        </p:txBody>
      </p:sp>
      <p:sp>
        <p:nvSpPr>
          <p:cNvPr id="59" name="TextBox 6"/>
          <p:cNvSpPr/>
          <p:nvPr/>
        </p:nvSpPr>
        <p:spPr>
          <a:xfrm>
            <a:off x="2192400" y="10568160"/>
            <a:ext cx="775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951280"/>
                <a:tab algn="l" pos="5902200"/>
                <a:tab algn="l" pos="8853480"/>
              </a:tabLst>
            </a:pPr>
            <a:r>
              <a:rPr b="0" lang="en-US" sz="3200" spc="-1" strike="noStrike">
                <a:solidFill>
                  <a:srgbClr val="25676a"/>
                </a:solidFill>
                <a:latin typeface="Roboto Condensed"/>
              </a:rPr>
              <a:t>DESCRIPCIÓN</a:t>
            </a:r>
            <a:endParaRPr b="0" lang="en-US" sz="3200" spc="-1" strike="noStrike">
              <a:solidFill>
                <a:srgbClr val="000000"/>
              </a:solidFill>
              <a:latin typeface="Arial"/>
            </a:endParaRPr>
          </a:p>
        </p:txBody>
      </p:sp>
      <p:sp>
        <p:nvSpPr>
          <p:cNvPr id="60" name="Freeform 407"/>
          <p:cNvSpPr/>
          <p:nvPr/>
        </p:nvSpPr>
        <p:spPr>
          <a:xfrm>
            <a:off x="906480" y="10210680"/>
            <a:ext cx="785880" cy="714600"/>
          </a:xfrm>
          <a:custGeom>
            <a:avLst/>
            <a:gdLst/>
            <a:ahLst/>
            <a:rect l="l" t="t" r="r" b="b"/>
            <a:pathLst>
              <a:path w="504826" h="396648">
                <a:moveTo>
                  <a:pt x="18030" y="324530"/>
                </a:moveTo>
                <a:lnTo>
                  <a:pt x="486796" y="324530"/>
                </a:lnTo>
                <a:cubicBezTo>
                  <a:pt x="491679" y="324530"/>
                  <a:pt x="495906" y="326314"/>
                  <a:pt x="499473" y="329883"/>
                </a:cubicBezTo>
                <a:cubicBezTo>
                  <a:pt x="503042" y="333451"/>
                  <a:pt x="504826" y="337677"/>
                  <a:pt x="504826" y="342560"/>
                </a:cubicBezTo>
                <a:lnTo>
                  <a:pt x="504826" y="378619"/>
                </a:lnTo>
                <a:cubicBezTo>
                  <a:pt x="504826" y="383502"/>
                  <a:pt x="503042" y="387727"/>
                  <a:pt x="499473" y="391296"/>
                </a:cubicBezTo>
                <a:cubicBezTo>
                  <a:pt x="495906" y="394864"/>
                  <a:pt x="491679" y="396648"/>
                  <a:pt x="486796" y="396648"/>
                </a:cubicBezTo>
                <a:lnTo>
                  <a:pt x="18030" y="396648"/>
                </a:lnTo>
                <a:cubicBezTo>
                  <a:pt x="13147" y="396648"/>
                  <a:pt x="8922" y="394864"/>
                  <a:pt x="5354" y="391296"/>
                </a:cubicBezTo>
                <a:cubicBezTo>
                  <a:pt x="1784" y="387727"/>
                  <a:pt x="1" y="383502"/>
                  <a:pt x="1" y="378619"/>
                </a:cubicBezTo>
                <a:lnTo>
                  <a:pt x="1" y="342560"/>
                </a:lnTo>
                <a:cubicBezTo>
                  <a:pt x="1" y="337677"/>
                  <a:pt x="1784" y="333451"/>
                  <a:pt x="5354" y="329883"/>
                </a:cubicBezTo>
                <a:cubicBezTo>
                  <a:pt x="8922" y="326314"/>
                  <a:pt x="13147" y="324530"/>
                  <a:pt x="18030" y="324530"/>
                </a:cubicBezTo>
                <a:close/>
                <a:moveTo>
                  <a:pt x="18029" y="216353"/>
                </a:moveTo>
                <a:lnTo>
                  <a:pt x="378618" y="216353"/>
                </a:lnTo>
                <a:cubicBezTo>
                  <a:pt x="383502" y="216353"/>
                  <a:pt x="387728" y="218138"/>
                  <a:pt x="391295" y="221706"/>
                </a:cubicBezTo>
                <a:cubicBezTo>
                  <a:pt x="394864" y="225274"/>
                  <a:pt x="396648" y="229500"/>
                  <a:pt x="396648" y="234383"/>
                </a:cubicBezTo>
                <a:lnTo>
                  <a:pt x="396648" y="270442"/>
                </a:lnTo>
                <a:cubicBezTo>
                  <a:pt x="396648" y="275325"/>
                  <a:pt x="394864" y="279551"/>
                  <a:pt x="391295" y="283119"/>
                </a:cubicBezTo>
                <a:cubicBezTo>
                  <a:pt x="387728" y="286687"/>
                  <a:pt x="383502" y="288471"/>
                  <a:pt x="378618" y="288471"/>
                </a:cubicBezTo>
                <a:lnTo>
                  <a:pt x="18029" y="288471"/>
                </a:lnTo>
                <a:cubicBezTo>
                  <a:pt x="13146" y="288471"/>
                  <a:pt x="8921" y="286687"/>
                  <a:pt x="5353" y="283119"/>
                </a:cubicBezTo>
                <a:cubicBezTo>
                  <a:pt x="1783" y="279551"/>
                  <a:pt x="0" y="275325"/>
                  <a:pt x="0" y="270442"/>
                </a:cubicBezTo>
                <a:lnTo>
                  <a:pt x="0" y="234383"/>
                </a:lnTo>
                <a:cubicBezTo>
                  <a:pt x="0" y="229500"/>
                  <a:pt x="1783" y="225274"/>
                  <a:pt x="5353" y="221706"/>
                </a:cubicBezTo>
                <a:cubicBezTo>
                  <a:pt x="8921" y="218138"/>
                  <a:pt x="13146" y="216353"/>
                  <a:pt x="18029" y="216353"/>
                </a:cubicBezTo>
                <a:close/>
                <a:moveTo>
                  <a:pt x="18029" y="108177"/>
                </a:moveTo>
                <a:lnTo>
                  <a:pt x="450737" y="108177"/>
                </a:lnTo>
                <a:cubicBezTo>
                  <a:pt x="455619" y="108177"/>
                  <a:pt x="459845" y="109961"/>
                  <a:pt x="463414" y="113529"/>
                </a:cubicBezTo>
                <a:cubicBezTo>
                  <a:pt x="466982" y="117097"/>
                  <a:pt x="468766" y="121323"/>
                  <a:pt x="468766" y="126206"/>
                </a:cubicBezTo>
                <a:lnTo>
                  <a:pt x="468766" y="162265"/>
                </a:lnTo>
                <a:cubicBezTo>
                  <a:pt x="468766" y="167148"/>
                  <a:pt x="466982" y="171374"/>
                  <a:pt x="463414" y="174942"/>
                </a:cubicBezTo>
                <a:cubicBezTo>
                  <a:pt x="459845" y="178510"/>
                  <a:pt x="455619" y="180294"/>
                  <a:pt x="450737" y="180294"/>
                </a:cubicBezTo>
                <a:lnTo>
                  <a:pt x="18029" y="180294"/>
                </a:lnTo>
                <a:cubicBezTo>
                  <a:pt x="13146" y="180294"/>
                  <a:pt x="8921" y="178510"/>
                  <a:pt x="5353" y="174942"/>
                </a:cubicBezTo>
                <a:cubicBezTo>
                  <a:pt x="1783" y="171374"/>
                  <a:pt x="0" y="167148"/>
                  <a:pt x="0" y="162265"/>
                </a:cubicBezTo>
                <a:lnTo>
                  <a:pt x="0" y="126206"/>
                </a:lnTo>
                <a:cubicBezTo>
                  <a:pt x="0" y="121323"/>
                  <a:pt x="1783" y="117097"/>
                  <a:pt x="5353" y="113529"/>
                </a:cubicBezTo>
                <a:cubicBezTo>
                  <a:pt x="8921" y="109961"/>
                  <a:pt x="13146" y="108177"/>
                  <a:pt x="18029" y="108177"/>
                </a:cubicBezTo>
                <a:close/>
                <a:moveTo>
                  <a:pt x="18030" y="0"/>
                </a:moveTo>
                <a:lnTo>
                  <a:pt x="342561" y="0"/>
                </a:lnTo>
                <a:cubicBezTo>
                  <a:pt x="347444" y="0"/>
                  <a:pt x="351670" y="1784"/>
                  <a:pt x="355238" y="5352"/>
                </a:cubicBezTo>
                <a:cubicBezTo>
                  <a:pt x="358806" y="8921"/>
                  <a:pt x="360590" y="13146"/>
                  <a:pt x="360590" y="18029"/>
                </a:cubicBezTo>
                <a:lnTo>
                  <a:pt x="360590" y="54088"/>
                </a:lnTo>
                <a:cubicBezTo>
                  <a:pt x="360590" y="58971"/>
                  <a:pt x="358806" y="63197"/>
                  <a:pt x="355238" y="66765"/>
                </a:cubicBezTo>
                <a:cubicBezTo>
                  <a:pt x="351670" y="70334"/>
                  <a:pt x="347444" y="72118"/>
                  <a:pt x="342561" y="72118"/>
                </a:cubicBezTo>
                <a:lnTo>
                  <a:pt x="18030" y="72118"/>
                </a:lnTo>
                <a:cubicBezTo>
                  <a:pt x="13147" y="72118"/>
                  <a:pt x="8922" y="70334"/>
                  <a:pt x="5354" y="66765"/>
                </a:cubicBezTo>
                <a:cubicBezTo>
                  <a:pt x="1784" y="63197"/>
                  <a:pt x="1" y="58971"/>
                  <a:pt x="1" y="54088"/>
                </a:cubicBezTo>
                <a:lnTo>
                  <a:pt x="1" y="18029"/>
                </a:lnTo>
                <a:cubicBezTo>
                  <a:pt x="1" y="13146"/>
                  <a:pt x="1784" y="8921"/>
                  <a:pt x="5354" y="5352"/>
                </a:cubicBezTo>
                <a:cubicBezTo>
                  <a:pt x="8922" y="1784"/>
                  <a:pt x="13147" y="0"/>
                  <a:pt x="1803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5800" spc="-1" strike="noStrike">
              <a:solidFill>
                <a:srgbClr val="000000"/>
              </a:solidFill>
              <a:latin typeface="Arial"/>
            </a:endParaRPr>
          </a:p>
        </p:txBody>
      </p:sp>
      <p:sp>
        <p:nvSpPr>
          <p:cNvPr id="61" name="105 Lágrima"/>
          <p:cNvSpPr/>
          <p:nvPr/>
        </p:nvSpPr>
        <p:spPr>
          <a:xfrm rot="5400000">
            <a:off x="548640" y="21640680"/>
            <a:ext cx="1500480" cy="1500120"/>
          </a:xfrm>
          <a:custGeom>
            <a:avLst/>
            <a:gdLst/>
            <a:ahLst/>
            <a:rect l="l" t="t" r="r" b="b"/>
            <a:pathLst>
              <a:path w="1500188" h="1500188">
                <a:moveTo>
                  <a:pt x="0" y="750094"/>
                </a:moveTo>
                <a:cubicBezTo>
                  <a:pt x="0" y="335829"/>
                  <a:pt x="335829" y="0"/>
                  <a:pt x="750094" y="0"/>
                </a:cubicBezTo>
                <a:lnTo>
                  <a:pt x="1500188" y="0"/>
                </a:lnTo>
                <a:lnTo>
                  <a:pt x="1500188" y="750094"/>
                </a:lnTo>
                <a:cubicBezTo>
                  <a:pt x="1500188" y="1164359"/>
                  <a:pt x="1164359" y="1500188"/>
                  <a:pt x="750094" y="1500188"/>
                </a:cubicBezTo>
                <a:cubicBezTo>
                  <a:pt x="335829" y="1500188"/>
                  <a:pt x="0" y="1164359"/>
                  <a:pt x="0" y="750094"/>
                </a:cubicBezTo>
                <a:close/>
              </a:path>
            </a:pathLst>
          </a:custGeom>
          <a:solidFill>
            <a:srgbClr val="56b87e"/>
          </a:solidFill>
          <a:ln w="0">
            <a:noFill/>
          </a:ln>
        </p:spPr>
        <p:style>
          <a:lnRef idx="0"/>
          <a:fillRef idx="0"/>
          <a:effectRef idx="0"/>
          <a:fontRef idx="minor"/>
        </p:style>
        <p:txBody>
          <a:bodyPr lIns="90000" rIns="90000" tIns="46800" bIns="46800" anchor="ctr">
            <a:noAutofit/>
          </a:bodyPr>
          <a:p>
            <a:endParaRPr b="0" lang="en-US" sz="5800" spc="-1" strike="noStrike">
              <a:solidFill>
                <a:srgbClr val="000000"/>
              </a:solidFill>
              <a:latin typeface="Arial"/>
            </a:endParaRPr>
          </a:p>
        </p:txBody>
      </p:sp>
      <p:sp>
        <p:nvSpPr>
          <p:cNvPr id="62" name="Straight Connector 3"/>
          <p:cNvSpPr/>
          <p:nvPr/>
        </p:nvSpPr>
        <p:spPr>
          <a:xfrm>
            <a:off x="1263600" y="23134680"/>
            <a:ext cx="19145160" cy="6480"/>
          </a:xfrm>
          <a:prstGeom prst="line">
            <a:avLst/>
          </a:prstGeom>
          <a:ln w="28440">
            <a:solidFill>
              <a:srgbClr val="56b87e"/>
            </a:solidFill>
            <a:miter/>
          </a:ln>
        </p:spPr>
        <p:style>
          <a:lnRef idx="0"/>
          <a:fillRef idx="0"/>
          <a:effectRef idx="0"/>
          <a:fontRef idx="minor"/>
        </p:style>
        <p:txBody>
          <a:bodyPr lIns="90000" rIns="90000" tIns="-40320" bIns="-40320" anchor="t">
            <a:noAutofit/>
          </a:bodyPr>
          <a:p>
            <a:endParaRPr b="0" lang="en-US" sz="5800" spc="-1" strike="noStrike">
              <a:solidFill>
                <a:srgbClr val="000000"/>
              </a:solidFill>
              <a:latin typeface="Arial"/>
            </a:endParaRPr>
          </a:p>
        </p:txBody>
      </p:sp>
      <p:sp>
        <p:nvSpPr>
          <p:cNvPr id="63" name="TextBox 6"/>
          <p:cNvSpPr/>
          <p:nvPr/>
        </p:nvSpPr>
        <p:spPr>
          <a:xfrm>
            <a:off x="2192400" y="22420440"/>
            <a:ext cx="794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951280"/>
                <a:tab algn="l" pos="5902200"/>
                <a:tab algn="l" pos="8853480"/>
              </a:tabLst>
            </a:pPr>
            <a:r>
              <a:rPr b="0" lang="en-US" sz="3200" spc="-1" strike="noStrike">
                <a:solidFill>
                  <a:srgbClr val="56b87e"/>
                </a:solidFill>
                <a:latin typeface="Roboto Condensed"/>
              </a:rPr>
              <a:t>AUTOR</a:t>
            </a:r>
            <a:endParaRPr b="0" lang="en-US" sz="3200" spc="-1" strike="noStrike">
              <a:solidFill>
                <a:srgbClr val="000000"/>
              </a:solidFill>
              <a:latin typeface="Arial"/>
            </a:endParaRPr>
          </a:p>
        </p:txBody>
      </p:sp>
      <p:sp>
        <p:nvSpPr>
          <p:cNvPr id="64" name="Freeform 558"/>
          <p:cNvSpPr/>
          <p:nvPr/>
        </p:nvSpPr>
        <p:spPr>
          <a:xfrm>
            <a:off x="977760" y="21920040"/>
            <a:ext cx="642960" cy="901800"/>
          </a:xfrm>
          <a:custGeom>
            <a:avLst/>
            <a:gdLst/>
            <a:ahLst/>
            <a:rect l="l" t="t" r="r" b="b"/>
            <a:pathLst>
              <a:path w="324530" h="455244">
                <a:moveTo>
                  <a:pt x="27045" y="63103"/>
                </a:moveTo>
                <a:cubicBezTo>
                  <a:pt x="34557" y="63103"/>
                  <a:pt x="40942" y="65732"/>
                  <a:pt x="46201" y="70991"/>
                </a:cubicBezTo>
                <a:lnTo>
                  <a:pt x="110430" y="135221"/>
                </a:lnTo>
                <a:lnTo>
                  <a:pt x="214100" y="135221"/>
                </a:lnTo>
                <a:lnTo>
                  <a:pt x="278330" y="70991"/>
                </a:lnTo>
                <a:cubicBezTo>
                  <a:pt x="283588" y="65732"/>
                  <a:pt x="289974" y="63103"/>
                  <a:pt x="297486" y="63103"/>
                </a:cubicBezTo>
                <a:cubicBezTo>
                  <a:pt x="304998" y="63103"/>
                  <a:pt x="311384" y="65732"/>
                  <a:pt x="316642" y="70991"/>
                </a:cubicBezTo>
                <a:cubicBezTo>
                  <a:pt x="321901" y="76249"/>
                  <a:pt x="324530" y="82635"/>
                  <a:pt x="324530" y="90147"/>
                </a:cubicBezTo>
                <a:cubicBezTo>
                  <a:pt x="324530" y="97659"/>
                  <a:pt x="321901" y="104045"/>
                  <a:pt x="316642" y="109303"/>
                </a:cubicBezTo>
                <a:lnTo>
                  <a:pt x="234383" y="191563"/>
                </a:lnTo>
                <a:lnTo>
                  <a:pt x="234383" y="423692"/>
                </a:lnTo>
                <a:cubicBezTo>
                  <a:pt x="234383" y="432331"/>
                  <a:pt x="231284" y="439750"/>
                  <a:pt x="225086" y="445947"/>
                </a:cubicBezTo>
                <a:cubicBezTo>
                  <a:pt x="218889" y="452145"/>
                  <a:pt x="211470" y="455244"/>
                  <a:pt x="202831" y="455244"/>
                </a:cubicBezTo>
                <a:cubicBezTo>
                  <a:pt x="194192" y="455244"/>
                  <a:pt x="186774" y="452145"/>
                  <a:pt x="180576" y="445947"/>
                </a:cubicBezTo>
                <a:cubicBezTo>
                  <a:pt x="174379" y="439750"/>
                  <a:pt x="171280" y="432331"/>
                  <a:pt x="171280" y="423692"/>
                </a:cubicBezTo>
                <a:lnTo>
                  <a:pt x="171280" y="315515"/>
                </a:lnTo>
                <a:lnTo>
                  <a:pt x="153251" y="315515"/>
                </a:lnTo>
                <a:lnTo>
                  <a:pt x="153251" y="423692"/>
                </a:lnTo>
                <a:cubicBezTo>
                  <a:pt x="153251" y="432331"/>
                  <a:pt x="150152" y="439750"/>
                  <a:pt x="143954" y="445947"/>
                </a:cubicBezTo>
                <a:cubicBezTo>
                  <a:pt x="137756" y="452145"/>
                  <a:pt x="130339" y="455244"/>
                  <a:pt x="121700" y="455244"/>
                </a:cubicBezTo>
                <a:cubicBezTo>
                  <a:pt x="113060" y="455244"/>
                  <a:pt x="105642" y="452145"/>
                  <a:pt x="99444" y="445947"/>
                </a:cubicBezTo>
                <a:cubicBezTo>
                  <a:pt x="93246" y="439750"/>
                  <a:pt x="90148" y="432331"/>
                  <a:pt x="90148" y="423692"/>
                </a:cubicBezTo>
                <a:lnTo>
                  <a:pt x="90148" y="191563"/>
                </a:lnTo>
                <a:lnTo>
                  <a:pt x="7888" y="109303"/>
                </a:lnTo>
                <a:cubicBezTo>
                  <a:pt x="2629" y="104045"/>
                  <a:pt x="0" y="97659"/>
                  <a:pt x="0" y="90147"/>
                </a:cubicBezTo>
                <a:cubicBezTo>
                  <a:pt x="0" y="82635"/>
                  <a:pt x="2629" y="76249"/>
                  <a:pt x="7888" y="70991"/>
                </a:cubicBezTo>
                <a:cubicBezTo>
                  <a:pt x="13147" y="65732"/>
                  <a:pt x="19532" y="63103"/>
                  <a:pt x="27045" y="63103"/>
                </a:cubicBezTo>
                <a:close/>
                <a:moveTo>
                  <a:pt x="162265" y="0"/>
                </a:moveTo>
                <a:cubicBezTo>
                  <a:pt x="179731" y="0"/>
                  <a:pt x="194614" y="6150"/>
                  <a:pt x="206916" y="18452"/>
                </a:cubicBezTo>
                <a:cubicBezTo>
                  <a:pt x="219218" y="30753"/>
                  <a:pt x="225368" y="45637"/>
                  <a:pt x="225368" y="63103"/>
                </a:cubicBezTo>
                <a:cubicBezTo>
                  <a:pt x="225368" y="80569"/>
                  <a:pt x="219218" y="95453"/>
                  <a:pt x="206916" y="107754"/>
                </a:cubicBezTo>
                <a:cubicBezTo>
                  <a:pt x="194614" y="120055"/>
                  <a:pt x="179731" y="126206"/>
                  <a:pt x="162265" y="126206"/>
                </a:cubicBezTo>
                <a:cubicBezTo>
                  <a:pt x="144799" y="126206"/>
                  <a:pt x="129916" y="120055"/>
                  <a:pt x="117614" y="107754"/>
                </a:cubicBezTo>
                <a:cubicBezTo>
                  <a:pt x="105313" y="95453"/>
                  <a:pt x="99162" y="80569"/>
                  <a:pt x="99162" y="63103"/>
                </a:cubicBezTo>
                <a:cubicBezTo>
                  <a:pt x="99162" y="45637"/>
                  <a:pt x="105313" y="30753"/>
                  <a:pt x="117614" y="18452"/>
                </a:cubicBezTo>
                <a:cubicBezTo>
                  <a:pt x="129916" y="6150"/>
                  <a:pt x="144799" y="0"/>
                  <a:pt x="162265"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5800" spc="-1" strike="noStrike">
              <a:solidFill>
                <a:srgbClr val="000000"/>
              </a:solidFill>
              <a:latin typeface="Arial"/>
            </a:endParaRPr>
          </a:p>
        </p:txBody>
      </p:sp>
      <p:sp>
        <p:nvSpPr>
          <p:cNvPr id="65" name="116 Rectángulo"/>
          <p:cNvSpPr/>
          <p:nvPr/>
        </p:nvSpPr>
        <p:spPr>
          <a:xfrm>
            <a:off x="11193480" y="4210200"/>
            <a:ext cx="9001080" cy="17073360"/>
          </a:xfrm>
          <a:prstGeom prst="rect">
            <a:avLst/>
          </a:prstGeom>
          <a:noFill/>
          <a:ln w="3816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2951280"/>
                <a:tab algn="l" pos="5902200"/>
                <a:tab algn="l" pos="8853480"/>
              </a:tabLst>
            </a:pPr>
            <a:endParaRPr b="0" lang="en-US" sz="5800" spc="-1" strike="noStrike">
              <a:solidFill>
                <a:srgbClr val="000000"/>
              </a:solidFill>
              <a:latin typeface="Arial"/>
            </a:endParaRPr>
          </a:p>
        </p:txBody>
      </p:sp>
      <p:sp>
        <p:nvSpPr>
          <p:cNvPr id="66" name="122 CuadroTexto"/>
          <p:cNvSpPr/>
          <p:nvPr/>
        </p:nvSpPr>
        <p:spPr>
          <a:xfrm>
            <a:off x="1835280" y="2428416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951280"/>
                <a:tab algn="l" pos="5902200"/>
                <a:tab algn="l" pos="8853480"/>
              </a:tabLst>
            </a:pPr>
            <a:r>
              <a:rPr b="0" lang="es-AR" sz="3600" spc="-1" strike="noStrike">
                <a:solidFill>
                  <a:srgbClr val="000000"/>
                </a:solidFill>
                <a:latin typeface="Calibri"/>
              </a:rPr>
              <a:t>[Colocar foto aqu</a:t>
            </a:r>
            <a:r>
              <a:rPr b="0" lang="es-ES" sz="3600" spc="-1" strike="noStrike">
                <a:solidFill>
                  <a:srgbClr val="000000"/>
                </a:solidFill>
                <a:latin typeface="Calibri"/>
              </a:rPr>
              <a:t>í]</a:t>
            </a:r>
            <a:endParaRPr b="0" lang="en-US" sz="3600" spc="-1" strike="noStrike">
              <a:solidFill>
                <a:srgbClr val="000000"/>
              </a:solidFill>
              <a:latin typeface="Arial"/>
            </a:endParaRPr>
          </a:p>
        </p:txBody>
      </p:sp>
      <p:sp>
        <p:nvSpPr>
          <p:cNvPr id="67" name="123 CuadroTexto"/>
          <p:cNvSpPr/>
          <p:nvPr/>
        </p:nvSpPr>
        <p:spPr>
          <a:xfrm>
            <a:off x="3978360" y="24238080"/>
            <a:ext cx="774540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951280"/>
                <a:tab algn="l" pos="5902200"/>
                <a:tab algn="l" pos="8853480"/>
              </a:tabLst>
            </a:pPr>
            <a:r>
              <a:rPr b="1" lang="es-ES" sz="3600" spc="-1" strike="noStrike">
                <a:solidFill>
                  <a:srgbClr val="000000"/>
                </a:solidFill>
                <a:latin typeface="Liberation Sans Narrow"/>
              </a:rPr>
              <a:t>Nicolás Delli Gatti</a:t>
            </a:r>
            <a:endParaRPr b="0" lang="en-US" sz="3600" spc="-1" strike="noStrike">
              <a:solidFill>
                <a:srgbClr val="000000"/>
              </a:solidFill>
              <a:latin typeface="Arial"/>
            </a:endParaRPr>
          </a:p>
          <a:p>
            <a:pPr>
              <a:lnSpc>
                <a:spcPct val="100000"/>
              </a:lnSpc>
              <a:tabLst>
                <a:tab algn="l" pos="0"/>
                <a:tab algn="l" pos="2951280"/>
                <a:tab algn="l" pos="5902200"/>
                <a:tab algn="l" pos="8853480"/>
              </a:tabLst>
            </a:pPr>
            <a:endParaRPr b="0" lang="en-US" sz="3200" spc="-1" strike="noStrike">
              <a:solidFill>
                <a:srgbClr val="000000"/>
              </a:solidFill>
              <a:latin typeface="Arial"/>
            </a:endParaRPr>
          </a:p>
          <a:p>
            <a:pPr>
              <a:lnSpc>
                <a:spcPct val="100000"/>
              </a:lnSpc>
              <a:tabLst>
                <a:tab algn="l" pos="0"/>
                <a:tab algn="l" pos="2951280"/>
                <a:tab algn="l" pos="5902200"/>
                <a:tab algn="l" pos="8853480"/>
              </a:tabLst>
            </a:pPr>
            <a:r>
              <a:rPr b="0" lang="es-ES" sz="3200" spc="-1" strike="noStrike">
                <a:solidFill>
                  <a:srgbClr val="000000"/>
                </a:solidFill>
                <a:latin typeface="Liberation Sans Narrow"/>
              </a:rPr>
              <a:t>Lic. en Música y Tecnología</a:t>
            </a:r>
            <a:endParaRPr b="0" lang="en-US" sz="3200" spc="-1" strike="noStrike">
              <a:solidFill>
                <a:srgbClr val="000000"/>
              </a:solidFill>
              <a:latin typeface="Arial"/>
            </a:endParaRPr>
          </a:p>
        </p:txBody>
      </p:sp>
      <p:sp>
        <p:nvSpPr>
          <p:cNvPr id="68" name="Straight Connector 3"/>
          <p:cNvSpPr/>
          <p:nvPr/>
        </p:nvSpPr>
        <p:spPr>
          <a:xfrm>
            <a:off x="1335240" y="5353200"/>
            <a:ext cx="8748720" cy="0"/>
          </a:xfrm>
          <a:prstGeom prst="line">
            <a:avLst/>
          </a:prstGeom>
          <a:ln w="28440">
            <a:solidFill>
              <a:srgbClr val="212f3f"/>
            </a:solidFill>
            <a:miter/>
          </a:ln>
        </p:spPr>
        <p:style>
          <a:lnRef idx="0"/>
          <a:fillRef idx="0"/>
          <a:effectRef idx="0"/>
          <a:fontRef idx="minor"/>
        </p:style>
        <p:txBody>
          <a:bodyPr lIns="90000" rIns="90000" tIns="-46800" bIns="-46800" anchor="t">
            <a:noAutofit/>
          </a:bodyPr>
          <a:p>
            <a:endParaRPr b="0" lang="en-US" sz="5800" spc="-1" strike="noStrike">
              <a:solidFill>
                <a:srgbClr val="000000"/>
              </a:solidFill>
              <a:latin typeface="Arial"/>
            </a:endParaRPr>
          </a:p>
        </p:txBody>
      </p:sp>
      <p:sp>
        <p:nvSpPr>
          <p:cNvPr id="69" name="138 CuadroTexto"/>
          <p:cNvSpPr/>
          <p:nvPr/>
        </p:nvSpPr>
        <p:spPr>
          <a:xfrm>
            <a:off x="2049480" y="5853240"/>
            <a:ext cx="8215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951280"/>
                <a:tab algn="l" pos="5902200"/>
                <a:tab algn="l" pos="8853480"/>
              </a:tabLst>
            </a:pPr>
            <a:r>
              <a:rPr b="0" lang="es-ES" sz="3600" spc="-1" strike="noStrike">
                <a:solidFill>
                  <a:srgbClr val="000000"/>
                </a:solidFill>
                <a:latin typeface="Roboto Condensed"/>
              </a:rPr>
              <a:t>Se ofrece a músicos y artistas sonoros con conocimientos básicos de procesamiento de audio, un sampler que simplifica el uso de distintas paletas de sonidos para ser aplicadas  tanto en grabaciones de estudio como en vivo, la cual fue desarrollada en Pure Data. </a:t>
            </a:r>
            <a:endParaRPr b="0" lang="en-US" sz="3600" spc="-1" strike="noStrike">
              <a:solidFill>
                <a:srgbClr val="000000"/>
              </a:solidFill>
              <a:latin typeface="Arial"/>
            </a:endParaRPr>
          </a:p>
        </p:txBody>
      </p:sp>
      <p:sp>
        <p:nvSpPr>
          <p:cNvPr id="70" name="139 CuadroTexto"/>
          <p:cNvSpPr/>
          <p:nvPr/>
        </p:nvSpPr>
        <p:spPr>
          <a:xfrm>
            <a:off x="2049480" y="11782440"/>
            <a:ext cx="8215200" cy="1100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2951280"/>
                <a:tab algn="l" pos="5902200"/>
                <a:tab algn="l" pos="8853480"/>
              </a:tabLst>
            </a:pPr>
            <a:r>
              <a:rPr b="0" lang="es-ES" sz="3200" spc="-1" strike="noStrike">
                <a:solidFill>
                  <a:srgbClr val="404040"/>
                </a:solidFill>
                <a:latin typeface="Roboto Condensed"/>
                <a:ea typeface="Roboto Condensed"/>
              </a:rPr>
              <a:t>Sampler 3.0 es un software  creado a través del entorno de programación Pure Data que organiza, procesa, aplica efectos digitales y espacializa sonidos mediante el control de un teclado MIDI. También permite seleccionar y cargar archivos de audio de manera simple y rápida, distribuir las paletas de sonidos por octava y controlar diferentes procesos durante la ejecución con la opción de editar parámetros desde el teclado sin necesidad de acudir al software en la Pc.</a:t>
            </a:r>
            <a:endParaRPr b="0" lang="en-US" sz="3200" spc="-1" strike="noStrike">
              <a:solidFill>
                <a:srgbClr val="000000"/>
              </a:solidFill>
              <a:latin typeface="Arial"/>
            </a:endParaRPr>
          </a:p>
          <a:p>
            <a:pPr>
              <a:lnSpc>
                <a:spcPct val="100000"/>
              </a:lnSpc>
              <a:spcAft>
                <a:spcPts val="1500"/>
              </a:spcAft>
              <a:tabLst>
                <a:tab algn="l" pos="0"/>
                <a:tab algn="l" pos="2951280"/>
                <a:tab algn="l" pos="5902200"/>
                <a:tab algn="l" pos="8853480"/>
              </a:tabLst>
            </a:pPr>
            <a:r>
              <a:rPr b="0" lang="es-ES" sz="3200" spc="-1" strike="noStrike">
                <a:solidFill>
                  <a:srgbClr val="404040"/>
                </a:solidFill>
                <a:latin typeface="Roboto Condensed"/>
                <a:ea typeface="Roboto Condensed"/>
              </a:rPr>
              <a:t>Sample r 3.0 es una herramienta desarrollada con soft libre, lo cual la vuelve mas versátil  (ya que el usuario experto podría intervenir el código) y más económica. Es aplicable  tanto en grabaciones de estudio como en sonorizaciones en tiempo real para diferentes ámbitos performativos como video arte, cine, danza o teatro. </a:t>
            </a:r>
            <a:endParaRPr b="0" lang="en-US" sz="3200" spc="-1" strike="noStrike">
              <a:solidFill>
                <a:srgbClr val="000000"/>
              </a:solidFill>
              <a:latin typeface="Arial"/>
            </a:endParaRPr>
          </a:p>
        </p:txBody>
      </p:sp>
      <p:sp>
        <p:nvSpPr>
          <p:cNvPr id="71" name="TextBox 6"/>
          <p:cNvSpPr/>
          <p:nvPr/>
        </p:nvSpPr>
        <p:spPr>
          <a:xfrm>
            <a:off x="15111360" y="808200"/>
            <a:ext cx="5083200" cy="192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2951280"/>
                <a:tab algn="l" pos="5902200"/>
                <a:tab algn="l" pos="8853480"/>
              </a:tabLst>
            </a:pPr>
            <a:r>
              <a:rPr b="0" lang="en-US" sz="6000" spc="-1" strike="noStrike">
                <a:solidFill>
                  <a:srgbClr val="404040"/>
                </a:solidFill>
                <a:latin typeface="Roboto Condensed"/>
              </a:rPr>
              <a:t>Categoría</a:t>
            </a:r>
            <a:endParaRPr b="0" lang="en-US" sz="6000" spc="-1" strike="noStrike">
              <a:solidFill>
                <a:srgbClr val="000000"/>
              </a:solidFill>
              <a:latin typeface="Arial"/>
            </a:endParaRPr>
          </a:p>
          <a:p>
            <a:pPr algn="r">
              <a:lnSpc>
                <a:spcPct val="100000"/>
              </a:lnSpc>
              <a:tabLst>
                <a:tab algn="l" pos="0"/>
                <a:tab algn="l" pos="2951280"/>
                <a:tab algn="l" pos="5902200"/>
                <a:tab algn="l" pos="8853480"/>
              </a:tabLst>
            </a:pPr>
            <a:r>
              <a:rPr b="0" lang="en-US" sz="6000" spc="-1" strike="noStrike">
                <a:solidFill>
                  <a:srgbClr val="404040"/>
                </a:solidFill>
                <a:latin typeface="Roboto Condensed"/>
              </a:rPr>
              <a:t>3</a:t>
            </a:r>
            <a:endParaRPr b="0" lang="en-US" sz="6000" spc="-1" strike="noStrike">
              <a:solidFill>
                <a:srgbClr val="000000"/>
              </a:solidFill>
              <a:latin typeface="Arial"/>
            </a:endParaRPr>
          </a:p>
        </p:txBody>
      </p:sp>
      <p:pic>
        <p:nvPicPr>
          <p:cNvPr id="72" name="Picture 46" descr="WhatsApp Image 2018-11-11 at 12"/>
          <p:cNvPicPr/>
          <p:nvPr/>
        </p:nvPicPr>
        <p:blipFill>
          <a:blip r:embed="rId1"/>
          <a:stretch/>
        </p:blipFill>
        <p:spPr>
          <a:xfrm>
            <a:off x="1547640" y="23744160"/>
            <a:ext cx="2341800" cy="2322720"/>
          </a:xfrm>
          <a:prstGeom prst="rect">
            <a:avLst/>
          </a:prstGeom>
          <a:ln w="0">
            <a:noFill/>
          </a:ln>
        </p:spPr>
      </p:pic>
      <p:pic>
        <p:nvPicPr>
          <p:cNvPr id="73" name="Picture 47" descr="WhatsApp Image 2018-11-11 at 1"/>
          <p:cNvPicPr/>
          <p:nvPr/>
        </p:nvPicPr>
        <p:blipFill>
          <a:blip r:embed="rId2"/>
          <a:stretch/>
        </p:blipFill>
        <p:spPr>
          <a:xfrm>
            <a:off x="12422160" y="5275440"/>
            <a:ext cx="6750000" cy="7129440"/>
          </a:xfrm>
          <a:prstGeom prst="rect">
            <a:avLst/>
          </a:prstGeom>
          <a:ln w="0">
            <a:noFill/>
          </a:ln>
        </p:spPr>
      </p:pic>
      <p:pic>
        <p:nvPicPr>
          <p:cNvPr id="74" name="Picture 48" descr="interface"/>
          <p:cNvPicPr/>
          <p:nvPr/>
        </p:nvPicPr>
        <p:blipFill>
          <a:blip r:embed="rId3"/>
          <a:stretch/>
        </p:blipFill>
        <p:spPr>
          <a:xfrm>
            <a:off x="11485440" y="13627080"/>
            <a:ext cx="8568000" cy="5457960"/>
          </a:xfrm>
          <a:prstGeom prst="rect">
            <a:avLst/>
          </a:prstGeom>
          <a:ln w="0">
            <a:noFill/>
          </a:ln>
        </p:spPr>
      </p:pic>
      <p:sp>
        <p:nvSpPr>
          <p:cNvPr id="75" name="TextBox 127"/>
          <p:cNvSpPr/>
          <p:nvPr/>
        </p:nvSpPr>
        <p:spPr>
          <a:xfrm>
            <a:off x="16265520" y="27212760"/>
            <a:ext cx="450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2951280"/>
                <a:tab algn="l" pos="5902200"/>
                <a:tab algn="l" pos="8853480"/>
              </a:tabLst>
            </a:pPr>
            <a:r>
              <a:rPr b="1" lang="en-US" sz="2000" spc="-1" strike="noStrike">
                <a:solidFill>
                  <a:srgbClr val="ffffff"/>
                </a:solidFill>
                <a:latin typeface="Roboto Condensed"/>
                <a:ea typeface="Roboto Condensed"/>
              </a:rPr>
              <a:t>CON EL APOYO DE </a:t>
            </a:r>
            <a:endParaRPr b="0" lang="en-US" sz="2000" spc="-1" strike="noStrike">
              <a:solidFill>
                <a:srgbClr val="000000"/>
              </a:solidFill>
              <a:latin typeface="Arial"/>
            </a:endParaRPr>
          </a:p>
        </p:txBody>
      </p:sp>
      <p:pic>
        <p:nvPicPr>
          <p:cNvPr id="76" name="Picture 9" descr="C:\Documents and Settings\paulina.becerra\Mis documentos\Descargas\SITTEC-Negativo-CMYK(1).png"/>
          <p:cNvPicPr/>
          <p:nvPr/>
        </p:nvPicPr>
        <p:blipFill>
          <a:blip r:embed="rId4"/>
          <a:stretch/>
        </p:blipFill>
        <p:spPr>
          <a:xfrm>
            <a:off x="14551200" y="27927360"/>
            <a:ext cx="3286080" cy="1517760"/>
          </a:xfrm>
          <a:prstGeom prst="rect">
            <a:avLst/>
          </a:prstGeom>
          <a:ln w="0">
            <a:noFill/>
          </a:ln>
        </p:spPr>
      </p:pic>
      <p:pic>
        <p:nvPicPr>
          <p:cNvPr id="77" name="Picture 10" descr="C:\Documents and Settings\paulina.becerra\Mis documentos\Mis imágenes\logo_euda_negativo.png"/>
          <p:cNvPicPr/>
          <p:nvPr/>
        </p:nvPicPr>
        <p:blipFill>
          <a:blip r:embed="rId5"/>
          <a:stretch/>
        </p:blipFill>
        <p:spPr>
          <a:xfrm>
            <a:off x="10907640" y="28070280"/>
            <a:ext cx="3581640" cy="1233360"/>
          </a:xfrm>
          <a:prstGeom prst="rect">
            <a:avLst/>
          </a:prstGeom>
          <a:ln w="0">
            <a:noFill/>
          </a:ln>
        </p:spPr>
      </p:pic>
      <p:sp>
        <p:nvSpPr>
          <p:cNvPr id="78" name="TextBox 127"/>
          <p:cNvSpPr/>
          <p:nvPr/>
        </p:nvSpPr>
        <p:spPr>
          <a:xfrm>
            <a:off x="10979280" y="27212760"/>
            <a:ext cx="45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951280"/>
                <a:tab algn="l" pos="5902200"/>
                <a:tab algn="l" pos="8853480"/>
              </a:tabLst>
            </a:pPr>
            <a:r>
              <a:rPr b="1" lang="en-US" sz="2000" spc="-1" strike="noStrike">
                <a:solidFill>
                  <a:srgbClr val="ffffff"/>
                </a:solidFill>
                <a:latin typeface="Roboto Condensed"/>
                <a:ea typeface="Roboto Condensed"/>
              </a:rPr>
              <a:t>ORGANIZA</a:t>
            </a:r>
            <a:endParaRPr b="0" lang="en-US" sz="2000" spc="-1" strike="noStrike">
              <a:solidFill>
                <a:srgbClr val="000000"/>
              </a:solidFill>
              <a:latin typeface="Arial"/>
            </a:endParaRPr>
          </a:p>
        </p:txBody>
      </p:sp>
      <p:pic>
        <p:nvPicPr>
          <p:cNvPr id="79" name="Picture 2" descr="C:\Users\braian.cordoba\Pictures\Logos EUdA\LogoUVQ png blanco.png"/>
          <p:cNvPicPr/>
          <p:nvPr/>
        </p:nvPicPr>
        <p:blipFill>
          <a:blip r:embed="rId6"/>
          <a:stretch/>
        </p:blipFill>
        <p:spPr>
          <a:xfrm>
            <a:off x="18175320" y="28141560"/>
            <a:ext cx="3211560" cy="1143000"/>
          </a:xfrm>
          <a:prstGeom prst="rect">
            <a:avLst/>
          </a:prstGeom>
          <a:ln w="0">
            <a:noFill/>
          </a:ln>
        </p:spPr>
      </p:pic>
      <p:sp>
        <p:nvSpPr>
          <p:cNvPr id="80" name="124 Lágrima"/>
          <p:cNvSpPr/>
          <p:nvPr/>
        </p:nvSpPr>
        <p:spPr>
          <a:xfrm>
            <a:off x="1549440" y="23761800"/>
            <a:ext cx="2308320" cy="2307960"/>
          </a:xfrm>
          <a:custGeom>
            <a:avLst/>
            <a:gdLst/>
            <a:ahLst/>
            <a:rect l="l" t="t" r="r" b="b"/>
            <a:pathLst>
              <a:path w="2308225" h="2308225">
                <a:moveTo>
                  <a:pt x="0" y="1154113"/>
                </a:moveTo>
                <a:cubicBezTo>
                  <a:pt x="0" y="516714"/>
                  <a:pt x="516714" y="0"/>
                  <a:pt x="1154113" y="0"/>
                </a:cubicBezTo>
                <a:lnTo>
                  <a:pt x="2308225" y="0"/>
                </a:lnTo>
                <a:lnTo>
                  <a:pt x="2308225" y="1154113"/>
                </a:lnTo>
                <a:cubicBezTo>
                  <a:pt x="2308225" y="1791512"/>
                  <a:pt x="1791511" y="2308226"/>
                  <a:pt x="1154112" y="2308226"/>
                </a:cubicBezTo>
                <a:cubicBezTo>
                  <a:pt x="516713" y="2308226"/>
                  <a:pt x="-1" y="1791512"/>
                  <a:pt x="-1" y="1154113"/>
                </a:cubicBezTo>
                <a:lnTo>
                  <a:pt x="0" y="1154113"/>
                </a:lnTo>
                <a:close/>
              </a:path>
            </a:pathLst>
          </a:custGeom>
          <a:noFill/>
          <a:ln w="57240">
            <a:solidFill>
              <a:srgbClr val="56b87e"/>
            </a:solidFill>
            <a:round/>
          </a:ln>
        </p:spPr>
        <p:style>
          <a:lnRef idx="0"/>
          <a:fillRef idx="0"/>
          <a:effectRef idx="0"/>
          <a:fontRef idx="minor"/>
        </p:style>
        <p:txBody>
          <a:bodyPr lIns="90000" rIns="90000" tIns="46800" bIns="46800" anchor="ctr">
            <a:noAutofit/>
          </a:bodyPr>
          <a:p>
            <a:endParaRPr b="0" lang="en-US" sz="5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1T03:44:20Z</dcterms:created>
  <dc:creator>Mr.Popo</dc:creator>
  <dc:description/>
  <dc:language>en-US</dc:language>
  <cp:lastModifiedBy>Paulina</cp:lastModifiedBy>
  <dcterms:modified xsi:type="dcterms:W3CDTF">2018-11-17T12:54:33Z</dcterms:modified>
  <cp:revision>9</cp:revision>
  <dc:subject/>
  <dc:title>Diapositiva 1</dc:title>
</cp:coreProperties>
</file>